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4.jpeg" ContentType="image/jpeg"/>
  <Override PartName="/ppt/media/image4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9.jpeg" ContentType="image/jpeg"/>
  <Override PartName="/ppt/media/image74.jpeg" ContentType="image/jpeg"/>
  <Override PartName="/ppt/media/image80.jpeg" ContentType="image/jpeg"/>
  <Override PartName="/ppt/media/image92.png" ContentType="image/pn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31B-6F05-4C61-9453-1601AE80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284-A39B-406D-A043-66DEEAC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2AC-A8D1-4C7B-8A4C-545B5FE4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CBD-6B3A-4382-8659-0B67128F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C742-53BC-4C84-95E0-8180AAC3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FD1-07DC-4FDA-9408-2084E9E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96EA-426A-46EC-8DD0-7E3BEDD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7E35-88D8-4543-8E63-3AD6D4F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818E-23A4-4973-B6CB-E588A39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9F6B-693E-485E-BFF5-B58B020E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223-6BE0-4F3E-AACB-A36F008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582-9CE2-4EAB-BA23-A3E0BE18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7755-CD91-42BF-BFAB-D0F6002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047-D777-4F3C-B275-8A8014C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701D-78A8-4209-A3D0-E5FD8F5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E53E-7DAE-47F3-9F33-3E11D85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75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30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47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75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30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0326-9AB6-4D54-922A-FE64F2CF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A05-0E17-4552-BF4C-8B52066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00C-9743-40C6-BD40-78F8DCD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DA3-09FF-4AD3-ACA3-8103C948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276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6BD-4BCF-4627-84F9-5BF9BE1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CCB-8BA9-4F2D-ADC7-3BE1D479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0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1F8-72BF-49B6-A370-951BCB7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0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904-06AE-4C5A-967A-9995CE8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074160" cy="6845400"/>
            <a:chOff x="0" y="0"/>
            <a:chExt cx="907416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914400" y="0"/>
              <a:ext cx="8159760" cy="6845400"/>
              <a:chOff x="914400" y="0"/>
              <a:chExt cx="8159760" cy="68454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077320" y="0"/>
                <a:ext cx="996840" cy="6845400"/>
                <a:chOff x="8077320" y="0"/>
                <a:chExt cx="996840" cy="68454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807732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8121600" y="0"/>
                  <a:ext cx="903240" cy="6845400"/>
                  <a:chOff x="8121600" y="0"/>
                  <a:chExt cx="903240" cy="6845400"/>
                </a:xfrm>
              </p:grpSpPr>
              <p:grpSp>
                <p:nvGrpSpPr>
                  <p:cNvPr id="5" name="Group 7"/>
                  <p:cNvGrpSpPr/>
                  <p:nvPr/>
                </p:nvGrpSpPr>
                <p:grpSpPr>
                  <a:xfrm>
                    <a:off x="8121600" y="0"/>
                    <a:ext cx="644400" cy="6845400"/>
                    <a:chOff x="8121600" y="0"/>
                    <a:chExt cx="644400" cy="6845400"/>
                  </a:xfrm>
                </p:grpSpPr>
                <p:sp>
                  <p:nvSpPr>
                    <p:cNvPr id="6" name="Rectangle 8"/>
                    <p:cNvSpPr/>
                    <p:nvPr/>
                  </p:nvSpPr>
                  <p:spPr>
                    <a:xfrm>
                      <a:off x="81216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" name="Rectangle 9"/>
                    <p:cNvSpPr/>
                    <p:nvPr/>
                  </p:nvSpPr>
                  <p:spPr>
                    <a:xfrm>
                      <a:off x="8594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8337600" y="0"/>
                    <a:ext cx="600120" cy="6845400"/>
                    <a:chOff x="8337600" y="0"/>
                    <a:chExt cx="600120" cy="6845400"/>
                  </a:xfrm>
                </p:grpSpPr>
                <p:sp>
                  <p:nvSpPr>
                    <p:cNvPr id="9" name="Rectangle 11"/>
                    <p:cNvSpPr/>
                    <p:nvPr/>
                  </p:nvSpPr>
                  <p:spPr>
                    <a:xfrm>
                      <a:off x="833760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" name="Rectangle 12"/>
                    <p:cNvSpPr/>
                    <p:nvPr/>
                  </p:nvSpPr>
                  <p:spPr>
                    <a:xfrm>
                      <a:off x="88106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" name="Group 13"/>
                  <p:cNvGrpSpPr/>
                  <p:nvPr/>
                </p:nvGrpSpPr>
                <p:grpSpPr>
                  <a:xfrm>
                    <a:off x="8510760" y="0"/>
                    <a:ext cx="514080" cy="6845400"/>
                    <a:chOff x="8510760" y="0"/>
                    <a:chExt cx="514080" cy="6845400"/>
                  </a:xfrm>
                </p:grpSpPr>
                <p:sp>
                  <p:nvSpPr>
                    <p:cNvPr id="12" name="Rectangle 14"/>
                    <p:cNvSpPr/>
                    <p:nvPr/>
                  </p:nvSpPr>
                  <p:spPr>
                    <a:xfrm>
                      <a:off x="85107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Rectangle 15"/>
                    <p:cNvSpPr/>
                    <p:nvPr/>
                  </p:nvSpPr>
                  <p:spPr>
                    <a:xfrm>
                      <a:off x="89852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" name="Group 16"/>
                <p:cNvGrpSpPr/>
                <p:nvPr/>
              </p:nvGrpSpPr>
              <p:grpSpPr>
                <a:xfrm>
                  <a:off x="8116920" y="270000"/>
                  <a:ext cx="663480" cy="6278400"/>
                  <a:chOff x="8116920" y="270000"/>
                  <a:chExt cx="663480" cy="6278400"/>
                </a:xfrm>
              </p:grpSpPr>
              <p:grpSp>
                <p:nvGrpSpPr>
                  <p:cNvPr id="15" name="Group 17"/>
                  <p:cNvGrpSpPr/>
                  <p:nvPr/>
                </p:nvGrpSpPr>
                <p:grpSpPr>
                  <a:xfrm>
                    <a:off x="8116920" y="270000"/>
                    <a:ext cx="663480" cy="1749240"/>
                    <a:chOff x="8116920" y="270000"/>
                    <a:chExt cx="663480" cy="1749240"/>
                  </a:xfrm>
                </p:grpSpPr>
                <p:sp>
                  <p:nvSpPr>
                    <p:cNvPr id="16" name="Freeform 18"/>
                    <p:cNvSpPr/>
                    <p:nvPr/>
                  </p:nvSpPr>
                  <p:spPr>
                    <a:xfrm>
                      <a:off x="85899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Freeform 19"/>
                    <p:cNvSpPr/>
                    <p:nvPr/>
                  </p:nvSpPr>
                  <p:spPr>
                    <a:xfrm>
                      <a:off x="811692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>
                      <a:off x="85899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" name="Freeform 21"/>
                    <p:cNvSpPr/>
                    <p:nvPr/>
                  </p:nvSpPr>
                  <p:spPr>
                    <a:xfrm>
                      <a:off x="811692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" name="Group 22"/>
                  <p:cNvGrpSpPr/>
                  <p:nvPr/>
                </p:nvGrpSpPr>
                <p:grpSpPr>
                  <a:xfrm>
                    <a:off x="8116920" y="2536920"/>
                    <a:ext cx="663480" cy="1749240"/>
                    <a:chOff x="8116920" y="2536920"/>
                    <a:chExt cx="663480" cy="1749240"/>
                  </a:xfrm>
                </p:grpSpPr>
                <p:sp>
                  <p:nvSpPr>
                    <p:cNvPr id="21" name="Freeform 23"/>
                    <p:cNvSpPr/>
                    <p:nvPr/>
                  </p:nvSpPr>
                  <p:spPr>
                    <a:xfrm>
                      <a:off x="85899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" name="Freeform 24"/>
                    <p:cNvSpPr/>
                    <p:nvPr/>
                  </p:nvSpPr>
                  <p:spPr>
                    <a:xfrm>
                      <a:off x="811692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" name="Freeform 25"/>
                    <p:cNvSpPr/>
                    <p:nvPr/>
                  </p:nvSpPr>
                  <p:spPr>
                    <a:xfrm>
                      <a:off x="85899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>
                      <a:off x="811692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8116920" y="4799160"/>
                    <a:ext cx="663480" cy="1749240"/>
                    <a:chOff x="8116920" y="4799160"/>
                    <a:chExt cx="663480" cy="17492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85899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811692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Freeform 30"/>
                    <p:cNvSpPr/>
                    <p:nvPr/>
                  </p:nvSpPr>
                  <p:spPr>
                    <a:xfrm>
                      <a:off x="85899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Freeform 31"/>
                    <p:cNvSpPr/>
                    <p:nvPr/>
                  </p:nvSpPr>
                  <p:spPr>
                    <a:xfrm>
                      <a:off x="811692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" name="Group 32"/>
              <p:cNvGrpSpPr/>
              <p:nvPr/>
            </p:nvGrpSpPr>
            <p:grpSpPr>
              <a:xfrm>
                <a:off x="6883560" y="0"/>
                <a:ext cx="995040" cy="6845400"/>
                <a:chOff x="6883560" y="0"/>
                <a:chExt cx="995040" cy="6845400"/>
              </a:xfrm>
            </p:grpSpPr>
            <p:sp>
              <p:nvSpPr>
                <p:cNvPr id="31" name="Rectangle 33"/>
                <p:cNvSpPr/>
                <p:nvPr/>
              </p:nvSpPr>
              <p:spPr>
                <a:xfrm>
                  <a:off x="68835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" name="Group 34"/>
                <p:cNvGrpSpPr/>
                <p:nvPr/>
              </p:nvGrpSpPr>
              <p:grpSpPr>
                <a:xfrm>
                  <a:off x="6927840" y="0"/>
                  <a:ext cx="903240" cy="6845400"/>
                  <a:chOff x="6927840" y="0"/>
                  <a:chExt cx="903240" cy="6845400"/>
                </a:xfrm>
              </p:grpSpPr>
              <p:grpSp>
                <p:nvGrpSpPr>
                  <p:cNvPr id="33" name="Group 35"/>
                  <p:cNvGrpSpPr/>
                  <p:nvPr/>
                </p:nvGrpSpPr>
                <p:grpSpPr>
                  <a:xfrm>
                    <a:off x="6927840" y="0"/>
                    <a:ext cx="646200" cy="6845400"/>
                    <a:chOff x="6927840" y="0"/>
                    <a:chExt cx="646200" cy="6845400"/>
                  </a:xfrm>
                </p:grpSpPr>
                <p:sp>
                  <p:nvSpPr>
                    <p:cNvPr id="34" name="Rectangle 36"/>
                    <p:cNvSpPr/>
                    <p:nvPr/>
                  </p:nvSpPr>
                  <p:spPr>
                    <a:xfrm>
                      <a:off x="6927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" name="Rectangle 37"/>
                    <p:cNvSpPr/>
                    <p:nvPr/>
                  </p:nvSpPr>
                  <p:spPr>
                    <a:xfrm>
                      <a:off x="7402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" name="Group 38"/>
                  <p:cNvGrpSpPr/>
                  <p:nvPr/>
                </p:nvGrpSpPr>
                <p:grpSpPr>
                  <a:xfrm>
                    <a:off x="7142040" y="0"/>
                    <a:ext cx="601920" cy="6845400"/>
                    <a:chOff x="7142040" y="0"/>
                    <a:chExt cx="601920" cy="6845400"/>
                  </a:xfrm>
                </p:grpSpPr>
                <p:sp>
                  <p:nvSpPr>
                    <p:cNvPr id="37" name="Rectangle 39"/>
                    <p:cNvSpPr/>
                    <p:nvPr/>
                  </p:nvSpPr>
                  <p:spPr>
                    <a:xfrm>
                      <a:off x="714204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" name="Rectangle 40"/>
                    <p:cNvSpPr/>
                    <p:nvPr/>
                  </p:nvSpPr>
                  <p:spPr>
                    <a:xfrm>
                      <a:off x="7615080" y="0"/>
                      <a:ext cx="1288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" name="Group 41"/>
                  <p:cNvGrpSpPr/>
                  <p:nvPr/>
                </p:nvGrpSpPr>
                <p:grpSpPr>
                  <a:xfrm>
                    <a:off x="7318440" y="0"/>
                    <a:ext cx="512640" cy="6845400"/>
                    <a:chOff x="7318440" y="0"/>
                    <a:chExt cx="512640" cy="6845400"/>
                  </a:xfrm>
                </p:grpSpPr>
                <p:sp>
                  <p:nvSpPr>
                    <p:cNvPr id="40" name="Rectangle 42"/>
                    <p:cNvSpPr/>
                    <p:nvPr/>
                  </p:nvSpPr>
                  <p:spPr>
                    <a:xfrm>
                      <a:off x="7318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" name="Rectangle 43"/>
                    <p:cNvSpPr/>
                    <p:nvPr/>
                  </p:nvSpPr>
                  <p:spPr>
                    <a:xfrm>
                      <a:off x="77914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923160" y="270000"/>
                  <a:ext cx="664920" cy="6278400"/>
                  <a:chOff x="6923160" y="270000"/>
                  <a:chExt cx="664920" cy="6278400"/>
                </a:xfrm>
              </p:grpSpPr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6923160" y="270000"/>
                    <a:ext cx="664920" cy="1749240"/>
                    <a:chOff x="6923160" y="270000"/>
                    <a:chExt cx="664920" cy="1749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>
                      <a:off x="739764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>
                      <a:off x="69231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" name="Freeform 48"/>
                    <p:cNvSpPr/>
                    <p:nvPr/>
                  </p:nvSpPr>
                  <p:spPr>
                    <a:xfrm>
                      <a:off x="739764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" name="Freeform 49"/>
                    <p:cNvSpPr/>
                    <p:nvPr/>
                  </p:nvSpPr>
                  <p:spPr>
                    <a:xfrm>
                      <a:off x="69231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" name="Group 50"/>
                  <p:cNvGrpSpPr/>
                  <p:nvPr/>
                </p:nvGrpSpPr>
                <p:grpSpPr>
                  <a:xfrm>
                    <a:off x="6923160" y="2536920"/>
                    <a:ext cx="664920" cy="1749240"/>
                    <a:chOff x="6923160" y="2536920"/>
                    <a:chExt cx="664920" cy="1749240"/>
                  </a:xfrm>
                </p:grpSpPr>
                <p:sp>
                  <p:nvSpPr>
                    <p:cNvPr id="49" name="Freeform 51"/>
                    <p:cNvSpPr/>
                    <p:nvPr/>
                  </p:nvSpPr>
                  <p:spPr>
                    <a:xfrm>
                      <a:off x="739764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Freeform 52"/>
                    <p:cNvSpPr/>
                    <p:nvPr/>
                  </p:nvSpPr>
                  <p:spPr>
                    <a:xfrm>
                      <a:off x="69231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>
                      <a:off x="739764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Freeform 54"/>
                    <p:cNvSpPr/>
                    <p:nvPr/>
                  </p:nvSpPr>
                  <p:spPr>
                    <a:xfrm>
                      <a:off x="69231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Group 55"/>
                  <p:cNvGrpSpPr/>
                  <p:nvPr/>
                </p:nvGrpSpPr>
                <p:grpSpPr>
                  <a:xfrm>
                    <a:off x="6923160" y="4799160"/>
                    <a:ext cx="664920" cy="1749240"/>
                    <a:chOff x="6923160" y="4799160"/>
                    <a:chExt cx="664920" cy="1749240"/>
                  </a:xfrm>
                </p:grpSpPr>
                <p:sp>
                  <p:nvSpPr>
                    <p:cNvPr id="54" name="Freeform 56"/>
                    <p:cNvSpPr/>
                    <p:nvPr/>
                  </p:nvSpPr>
                  <p:spPr>
                    <a:xfrm>
                      <a:off x="739764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Freeform 57"/>
                    <p:cNvSpPr/>
                    <p:nvPr/>
                  </p:nvSpPr>
                  <p:spPr>
                    <a:xfrm>
                      <a:off x="69231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Freeform 58"/>
                    <p:cNvSpPr/>
                    <p:nvPr/>
                  </p:nvSpPr>
                  <p:spPr>
                    <a:xfrm>
                      <a:off x="739764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>
                      <a:off x="69231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8" name="Group 60"/>
              <p:cNvGrpSpPr/>
              <p:nvPr/>
            </p:nvGrpSpPr>
            <p:grpSpPr>
              <a:xfrm>
                <a:off x="5691240" y="0"/>
                <a:ext cx="995400" cy="6845400"/>
                <a:chOff x="5691240" y="0"/>
                <a:chExt cx="995400" cy="6845400"/>
              </a:xfrm>
            </p:grpSpPr>
            <p:sp>
              <p:nvSpPr>
                <p:cNvPr id="59" name="Rectangle 61"/>
                <p:cNvSpPr/>
                <p:nvPr/>
              </p:nvSpPr>
              <p:spPr>
                <a:xfrm>
                  <a:off x="569124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Group 62"/>
                <p:cNvGrpSpPr/>
                <p:nvPr/>
              </p:nvGrpSpPr>
              <p:grpSpPr>
                <a:xfrm>
                  <a:off x="5732640" y="0"/>
                  <a:ext cx="906120" cy="6845400"/>
                  <a:chOff x="5732640" y="0"/>
                  <a:chExt cx="906120" cy="6845400"/>
                </a:xfrm>
              </p:grpSpPr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5732640" y="0"/>
                    <a:ext cx="645840" cy="6845400"/>
                    <a:chOff x="5732640" y="0"/>
                    <a:chExt cx="645840" cy="6845400"/>
                  </a:xfrm>
                </p:grpSpPr>
                <p:sp>
                  <p:nvSpPr>
                    <p:cNvPr id="62" name="Rectangle 64"/>
                    <p:cNvSpPr/>
                    <p:nvPr/>
                  </p:nvSpPr>
                  <p:spPr>
                    <a:xfrm>
                      <a:off x="57326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65"/>
                    <p:cNvSpPr/>
                    <p:nvPr/>
                  </p:nvSpPr>
                  <p:spPr>
                    <a:xfrm>
                      <a:off x="62071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5948280" y="0"/>
                    <a:ext cx="601920" cy="6845400"/>
                    <a:chOff x="5948280" y="0"/>
                    <a:chExt cx="601920" cy="6845400"/>
                  </a:xfrm>
                </p:grpSpPr>
                <p:sp>
                  <p:nvSpPr>
                    <p:cNvPr id="65" name="Rectangle 67"/>
                    <p:cNvSpPr/>
                    <p:nvPr/>
                  </p:nvSpPr>
                  <p:spPr>
                    <a:xfrm>
                      <a:off x="5948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Rectangle 68"/>
                    <p:cNvSpPr/>
                    <p:nvPr/>
                  </p:nvSpPr>
                  <p:spPr>
                    <a:xfrm>
                      <a:off x="64231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6124680" y="0"/>
                    <a:ext cx="514080" cy="6845400"/>
                    <a:chOff x="6124680" y="0"/>
                    <a:chExt cx="514080" cy="6845400"/>
                  </a:xfrm>
                </p:grpSpPr>
                <p:sp>
                  <p:nvSpPr>
                    <p:cNvPr id="68" name="Rectangle 70"/>
                    <p:cNvSpPr/>
                    <p:nvPr/>
                  </p:nvSpPr>
                  <p:spPr>
                    <a:xfrm>
                      <a:off x="61246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Rectangle 71"/>
                    <p:cNvSpPr/>
                    <p:nvPr/>
                  </p:nvSpPr>
                  <p:spPr>
                    <a:xfrm>
                      <a:off x="6599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" name="Group 72"/>
                <p:cNvGrpSpPr/>
                <p:nvPr/>
              </p:nvGrpSpPr>
              <p:grpSpPr>
                <a:xfrm>
                  <a:off x="5729400" y="270000"/>
                  <a:ext cx="663480" cy="6278400"/>
                  <a:chOff x="5729400" y="270000"/>
                  <a:chExt cx="663480" cy="6278400"/>
                </a:xfrm>
              </p:grpSpPr>
              <p:grpSp>
                <p:nvGrpSpPr>
                  <p:cNvPr id="71" name="Group 73"/>
                  <p:cNvGrpSpPr/>
                  <p:nvPr/>
                </p:nvGrpSpPr>
                <p:grpSpPr>
                  <a:xfrm>
                    <a:off x="5729400" y="270000"/>
                    <a:ext cx="663480" cy="1749240"/>
                    <a:chOff x="5729400" y="270000"/>
                    <a:chExt cx="663480" cy="1749240"/>
                  </a:xfrm>
                </p:grpSpPr>
                <p:sp>
                  <p:nvSpPr>
                    <p:cNvPr id="72" name="Freeform 74"/>
                    <p:cNvSpPr/>
                    <p:nvPr/>
                  </p:nvSpPr>
                  <p:spPr>
                    <a:xfrm>
                      <a:off x="620388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Freeform 75"/>
                    <p:cNvSpPr/>
                    <p:nvPr/>
                  </p:nvSpPr>
                  <p:spPr>
                    <a:xfrm>
                      <a:off x="572940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Freeform 76"/>
                    <p:cNvSpPr/>
                    <p:nvPr/>
                  </p:nvSpPr>
                  <p:spPr>
                    <a:xfrm>
                      <a:off x="620388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Freeform 77"/>
                    <p:cNvSpPr/>
                    <p:nvPr/>
                  </p:nvSpPr>
                  <p:spPr>
                    <a:xfrm>
                      <a:off x="572940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" name="Group 78"/>
                  <p:cNvGrpSpPr/>
                  <p:nvPr/>
                </p:nvGrpSpPr>
                <p:grpSpPr>
                  <a:xfrm>
                    <a:off x="5729400" y="2536920"/>
                    <a:ext cx="663480" cy="1749240"/>
                    <a:chOff x="5729400" y="2536920"/>
                    <a:chExt cx="663480" cy="1749240"/>
                  </a:xfrm>
                </p:grpSpPr>
                <p:sp>
                  <p:nvSpPr>
                    <p:cNvPr id="77" name="Freeform 79"/>
                    <p:cNvSpPr/>
                    <p:nvPr/>
                  </p:nvSpPr>
                  <p:spPr>
                    <a:xfrm>
                      <a:off x="620388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Freeform 80"/>
                    <p:cNvSpPr/>
                    <p:nvPr/>
                  </p:nvSpPr>
                  <p:spPr>
                    <a:xfrm>
                      <a:off x="572940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Freeform 81"/>
                    <p:cNvSpPr/>
                    <p:nvPr/>
                  </p:nvSpPr>
                  <p:spPr>
                    <a:xfrm>
                      <a:off x="620388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>
                      <a:off x="572940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729400" y="4799160"/>
                    <a:ext cx="663480" cy="1749240"/>
                    <a:chOff x="5729400" y="4799160"/>
                    <a:chExt cx="663480" cy="174924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>
                      <a:off x="620388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>
                      <a:off x="572940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Freeform 86"/>
                    <p:cNvSpPr/>
                    <p:nvPr/>
                  </p:nvSpPr>
                  <p:spPr>
                    <a:xfrm>
                      <a:off x="620388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Freeform 87"/>
                    <p:cNvSpPr/>
                    <p:nvPr/>
                  </p:nvSpPr>
                  <p:spPr>
                    <a:xfrm>
                      <a:off x="572940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6" name="Group 88"/>
              <p:cNvGrpSpPr/>
              <p:nvPr/>
            </p:nvGrpSpPr>
            <p:grpSpPr>
              <a:xfrm>
                <a:off x="4495680" y="0"/>
                <a:ext cx="997200" cy="6845400"/>
                <a:chOff x="4495680" y="0"/>
                <a:chExt cx="997200" cy="6845400"/>
              </a:xfrm>
            </p:grpSpPr>
            <p:sp>
              <p:nvSpPr>
                <p:cNvPr id="87" name="Rectangle 89"/>
                <p:cNvSpPr/>
                <p:nvPr/>
              </p:nvSpPr>
              <p:spPr>
                <a:xfrm>
                  <a:off x="4495680" y="0"/>
                  <a:ext cx="9972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Group 90"/>
                <p:cNvGrpSpPr/>
                <p:nvPr/>
              </p:nvGrpSpPr>
              <p:grpSpPr>
                <a:xfrm>
                  <a:off x="4540320" y="0"/>
                  <a:ext cx="903240" cy="6845400"/>
                  <a:chOff x="4540320" y="0"/>
                  <a:chExt cx="903240" cy="6845400"/>
                </a:xfrm>
              </p:grpSpPr>
              <p:grpSp>
                <p:nvGrpSpPr>
                  <p:cNvPr id="89" name="Group 91"/>
                  <p:cNvGrpSpPr/>
                  <p:nvPr/>
                </p:nvGrpSpPr>
                <p:grpSpPr>
                  <a:xfrm>
                    <a:off x="4540320" y="0"/>
                    <a:ext cx="644400" cy="6845400"/>
                    <a:chOff x="4540320" y="0"/>
                    <a:chExt cx="644400" cy="6845400"/>
                  </a:xfrm>
                </p:grpSpPr>
                <p:sp>
                  <p:nvSpPr>
                    <p:cNvPr id="90" name="Rectangle 92"/>
                    <p:cNvSpPr/>
                    <p:nvPr/>
                  </p:nvSpPr>
                  <p:spPr>
                    <a:xfrm>
                      <a:off x="4540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Rectangle 93"/>
                    <p:cNvSpPr/>
                    <p:nvPr/>
                  </p:nvSpPr>
                  <p:spPr>
                    <a:xfrm>
                      <a:off x="5013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Group 94"/>
                  <p:cNvGrpSpPr/>
                  <p:nvPr/>
                </p:nvGrpSpPr>
                <p:grpSpPr>
                  <a:xfrm>
                    <a:off x="4756320" y="0"/>
                    <a:ext cx="599760" cy="6845400"/>
                    <a:chOff x="4756320" y="0"/>
                    <a:chExt cx="599760" cy="6845400"/>
                  </a:xfrm>
                </p:grpSpPr>
                <p:sp>
                  <p:nvSpPr>
                    <p:cNvPr id="93" name="Rectangle 95"/>
                    <p:cNvSpPr/>
                    <p:nvPr/>
                  </p:nvSpPr>
                  <p:spPr>
                    <a:xfrm>
                      <a:off x="475632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Rectangle 96"/>
                    <p:cNvSpPr/>
                    <p:nvPr/>
                  </p:nvSpPr>
                  <p:spPr>
                    <a:xfrm>
                      <a:off x="522936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Group 97"/>
                  <p:cNvGrpSpPr/>
                  <p:nvPr/>
                </p:nvGrpSpPr>
                <p:grpSpPr>
                  <a:xfrm>
                    <a:off x="4930920" y="0"/>
                    <a:ext cx="512640" cy="6845400"/>
                    <a:chOff x="4930920" y="0"/>
                    <a:chExt cx="512640" cy="6845400"/>
                  </a:xfrm>
                </p:grpSpPr>
                <p:sp>
                  <p:nvSpPr>
                    <p:cNvPr id="96" name="Rectangle 98"/>
                    <p:cNvSpPr/>
                    <p:nvPr/>
                  </p:nvSpPr>
                  <p:spPr>
                    <a:xfrm>
                      <a:off x="4930920" y="0"/>
                      <a:ext cx="378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99"/>
                    <p:cNvSpPr/>
                    <p:nvPr/>
                  </p:nvSpPr>
                  <p:spPr>
                    <a:xfrm>
                      <a:off x="54039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4535640" y="270000"/>
                  <a:ext cx="664920" cy="6278400"/>
                  <a:chOff x="4535640" y="270000"/>
                  <a:chExt cx="664920" cy="6278400"/>
                </a:xfrm>
              </p:grpSpPr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4535640" y="270000"/>
                    <a:ext cx="664920" cy="1749240"/>
                    <a:chOff x="4535640" y="270000"/>
                    <a:chExt cx="664920" cy="174924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>
                      <a:off x="5008680" y="27000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>
                      <a:off x="453564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Freeform 104"/>
                    <p:cNvSpPr/>
                    <p:nvPr/>
                  </p:nvSpPr>
                  <p:spPr>
                    <a:xfrm>
                      <a:off x="5008680" y="120816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Freeform 105"/>
                    <p:cNvSpPr/>
                    <p:nvPr/>
                  </p:nvSpPr>
                  <p:spPr>
                    <a:xfrm>
                      <a:off x="453564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Group 106"/>
                  <p:cNvGrpSpPr/>
                  <p:nvPr/>
                </p:nvGrpSpPr>
                <p:grpSpPr>
                  <a:xfrm>
                    <a:off x="4535640" y="2536920"/>
                    <a:ext cx="664920" cy="1749240"/>
                    <a:chOff x="4535640" y="2536920"/>
                    <a:chExt cx="664920" cy="1749240"/>
                  </a:xfrm>
                </p:grpSpPr>
                <p:sp>
                  <p:nvSpPr>
                    <p:cNvPr id="105" name="Freeform 107"/>
                    <p:cNvSpPr/>
                    <p:nvPr/>
                  </p:nvSpPr>
                  <p:spPr>
                    <a:xfrm>
                      <a:off x="5008680" y="253692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108"/>
                    <p:cNvSpPr/>
                    <p:nvPr/>
                  </p:nvSpPr>
                  <p:spPr>
                    <a:xfrm>
                      <a:off x="453564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>
                      <a:off x="5008680" y="347508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Freeform 110"/>
                    <p:cNvSpPr/>
                    <p:nvPr/>
                  </p:nvSpPr>
                  <p:spPr>
                    <a:xfrm>
                      <a:off x="453564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" name="Group 111"/>
                  <p:cNvGrpSpPr/>
                  <p:nvPr/>
                </p:nvGrpSpPr>
                <p:grpSpPr>
                  <a:xfrm>
                    <a:off x="4535640" y="4799160"/>
                    <a:ext cx="664920" cy="1749240"/>
                    <a:chOff x="4535640" y="4799160"/>
                    <a:chExt cx="664920" cy="1749240"/>
                  </a:xfrm>
                </p:grpSpPr>
                <p:sp>
                  <p:nvSpPr>
                    <p:cNvPr id="110" name="Freeform 112"/>
                    <p:cNvSpPr/>
                    <p:nvPr/>
                  </p:nvSpPr>
                  <p:spPr>
                    <a:xfrm>
                      <a:off x="5008680" y="479916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Freeform 113"/>
                    <p:cNvSpPr/>
                    <p:nvPr/>
                  </p:nvSpPr>
                  <p:spPr>
                    <a:xfrm>
                      <a:off x="453564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Freeform 114"/>
                    <p:cNvSpPr/>
                    <p:nvPr/>
                  </p:nvSpPr>
                  <p:spPr>
                    <a:xfrm>
                      <a:off x="5008680" y="5737320"/>
                      <a:ext cx="19188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Freeform 115"/>
                    <p:cNvSpPr/>
                    <p:nvPr/>
                  </p:nvSpPr>
                  <p:spPr>
                    <a:xfrm>
                      <a:off x="453564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4" name="Group 116"/>
              <p:cNvGrpSpPr/>
              <p:nvPr/>
            </p:nvGrpSpPr>
            <p:grpSpPr>
              <a:xfrm>
                <a:off x="3301920" y="0"/>
                <a:ext cx="995400" cy="6845400"/>
                <a:chOff x="3301920" y="0"/>
                <a:chExt cx="995400" cy="6845400"/>
              </a:xfrm>
            </p:grpSpPr>
            <p:sp>
              <p:nvSpPr>
                <p:cNvPr id="115" name="Rectangle 117"/>
                <p:cNvSpPr/>
                <p:nvPr/>
              </p:nvSpPr>
              <p:spPr>
                <a:xfrm>
                  <a:off x="3301920" y="0"/>
                  <a:ext cx="99540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118"/>
                <p:cNvGrpSpPr/>
                <p:nvPr/>
              </p:nvGrpSpPr>
              <p:grpSpPr>
                <a:xfrm>
                  <a:off x="3346560" y="0"/>
                  <a:ext cx="903240" cy="6845400"/>
                  <a:chOff x="3346560" y="0"/>
                  <a:chExt cx="903240" cy="6845400"/>
                </a:xfrm>
              </p:grpSpPr>
              <p:grpSp>
                <p:nvGrpSpPr>
                  <p:cNvPr id="117" name="Group 119"/>
                  <p:cNvGrpSpPr/>
                  <p:nvPr/>
                </p:nvGrpSpPr>
                <p:grpSpPr>
                  <a:xfrm>
                    <a:off x="3346560" y="0"/>
                    <a:ext cx="645840" cy="6845400"/>
                    <a:chOff x="3346560" y="0"/>
                    <a:chExt cx="645840" cy="6845400"/>
                  </a:xfrm>
                </p:grpSpPr>
                <p:sp>
                  <p:nvSpPr>
                    <p:cNvPr id="118" name="Rectangle 120"/>
                    <p:cNvSpPr/>
                    <p:nvPr/>
                  </p:nvSpPr>
                  <p:spPr>
                    <a:xfrm>
                      <a:off x="33465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121"/>
                    <p:cNvSpPr/>
                    <p:nvPr/>
                  </p:nvSpPr>
                  <p:spPr>
                    <a:xfrm>
                      <a:off x="3821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122"/>
                  <p:cNvGrpSpPr/>
                  <p:nvPr/>
                </p:nvGrpSpPr>
                <p:grpSpPr>
                  <a:xfrm>
                    <a:off x="3560760" y="0"/>
                    <a:ext cx="601560" cy="6845400"/>
                    <a:chOff x="3560760" y="0"/>
                    <a:chExt cx="601560" cy="6845400"/>
                  </a:xfrm>
                </p:grpSpPr>
                <p:sp>
                  <p:nvSpPr>
                    <p:cNvPr id="121" name="Rectangle 123"/>
                    <p:cNvSpPr/>
                    <p:nvPr/>
                  </p:nvSpPr>
                  <p:spPr>
                    <a:xfrm>
                      <a:off x="356076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124"/>
                    <p:cNvSpPr/>
                    <p:nvPr/>
                  </p:nvSpPr>
                  <p:spPr>
                    <a:xfrm>
                      <a:off x="4035600" y="0"/>
                      <a:ext cx="126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125"/>
                  <p:cNvGrpSpPr/>
                  <p:nvPr/>
                </p:nvGrpSpPr>
                <p:grpSpPr>
                  <a:xfrm>
                    <a:off x="3736800" y="0"/>
                    <a:ext cx="513000" cy="6845400"/>
                    <a:chOff x="3736800" y="0"/>
                    <a:chExt cx="513000" cy="6845400"/>
                  </a:xfrm>
                </p:grpSpPr>
                <p:sp>
                  <p:nvSpPr>
                    <p:cNvPr id="124" name="Rectangle 126"/>
                    <p:cNvSpPr/>
                    <p:nvPr/>
                  </p:nvSpPr>
                  <p:spPr>
                    <a:xfrm>
                      <a:off x="373680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Rectangle 127"/>
                    <p:cNvSpPr/>
                    <p:nvPr/>
                  </p:nvSpPr>
                  <p:spPr>
                    <a:xfrm>
                      <a:off x="421164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6" name="Group 128"/>
                <p:cNvGrpSpPr/>
                <p:nvPr/>
              </p:nvGrpSpPr>
              <p:grpSpPr>
                <a:xfrm>
                  <a:off x="3341520" y="270000"/>
                  <a:ext cx="665280" cy="6278400"/>
                  <a:chOff x="3341520" y="270000"/>
                  <a:chExt cx="665280" cy="6278400"/>
                </a:xfrm>
              </p:grpSpPr>
              <p:grpSp>
                <p:nvGrpSpPr>
                  <p:cNvPr id="127" name="Group 129"/>
                  <p:cNvGrpSpPr/>
                  <p:nvPr/>
                </p:nvGrpSpPr>
                <p:grpSpPr>
                  <a:xfrm>
                    <a:off x="3341520" y="270000"/>
                    <a:ext cx="665280" cy="1749240"/>
                    <a:chOff x="3341520" y="270000"/>
                    <a:chExt cx="665280" cy="1749240"/>
                  </a:xfrm>
                </p:grpSpPr>
                <p:sp>
                  <p:nvSpPr>
                    <p:cNvPr id="128" name="Freeform 130"/>
                    <p:cNvSpPr/>
                    <p:nvPr/>
                  </p:nvSpPr>
                  <p:spPr>
                    <a:xfrm>
                      <a:off x="381636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Freeform 131"/>
                    <p:cNvSpPr/>
                    <p:nvPr/>
                  </p:nvSpPr>
                  <p:spPr>
                    <a:xfrm>
                      <a:off x="3341520" y="27000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Freeform 132"/>
                    <p:cNvSpPr/>
                    <p:nvPr/>
                  </p:nvSpPr>
                  <p:spPr>
                    <a:xfrm>
                      <a:off x="381636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Freeform 133"/>
                    <p:cNvSpPr/>
                    <p:nvPr/>
                  </p:nvSpPr>
                  <p:spPr>
                    <a:xfrm>
                      <a:off x="3341520" y="120816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" name="Group 134"/>
                  <p:cNvGrpSpPr/>
                  <p:nvPr/>
                </p:nvGrpSpPr>
                <p:grpSpPr>
                  <a:xfrm>
                    <a:off x="3341520" y="2536920"/>
                    <a:ext cx="665280" cy="1749240"/>
                    <a:chOff x="3341520" y="2536920"/>
                    <a:chExt cx="665280" cy="1749240"/>
                  </a:xfrm>
                </p:grpSpPr>
                <p:sp>
                  <p:nvSpPr>
                    <p:cNvPr id="133" name="Freeform 135"/>
                    <p:cNvSpPr/>
                    <p:nvPr/>
                  </p:nvSpPr>
                  <p:spPr>
                    <a:xfrm>
                      <a:off x="381636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Freeform 136"/>
                    <p:cNvSpPr/>
                    <p:nvPr/>
                  </p:nvSpPr>
                  <p:spPr>
                    <a:xfrm>
                      <a:off x="3341520" y="253692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Freeform 137"/>
                    <p:cNvSpPr/>
                    <p:nvPr/>
                  </p:nvSpPr>
                  <p:spPr>
                    <a:xfrm>
                      <a:off x="381636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Freeform 138"/>
                    <p:cNvSpPr/>
                    <p:nvPr/>
                  </p:nvSpPr>
                  <p:spPr>
                    <a:xfrm>
                      <a:off x="3341520" y="347508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9"/>
                  <p:cNvGrpSpPr/>
                  <p:nvPr/>
                </p:nvGrpSpPr>
                <p:grpSpPr>
                  <a:xfrm>
                    <a:off x="3341520" y="4799160"/>
                    <a:ext cx="665280" cy="1749240"/>
                    <a:chOff x="3341520" y="4799160"/>
                    <a:chExt cx="665280" cy="1749240"/>
                  </a:xfrm>
                </p:grpSpPr>
                <p:sp>
                  <p:nvSpPr>
                    <p:cNvPr id="138" name="Freeform 140"/>
                    <p:cNvSpPr/>
                    <p:nvPr/>
                  </p:nvSpPr>
                  <p:spPr>
                    <a:xfrm>
                      <a:off x="381636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Freeform 141"/>
                    <p:cNvSpPr/>
                    <p:nvPr/>
                  </p:nvSpPr>
                  <p:spPr>
                    <a:xfrm>
                      <a:off x="3341520" y="479916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Freeform 142"/>
                    <p:cNvSpPr/>
                    <p:nvPr/>
                  </p:nvSpPr>
                  <p:spPr>
                    <a:xfrm>
                      <a:off x="381636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Freeform 143"/>
                    <p:cNvSpPr/>
                    <p:nvPr/>
                  </p:nvSpPr>
                  <p:spPr>
                    <a:xfrm>
                      <a:off x="3341520" y="5737320"/>
                      <a:ext cx="1908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" name="Group 144"/>
              <p:cNvGrpSpPr/>
              <p:nvPr/>
            </p:nvGrpSpPr>
            <p:grpSpPr>
              <a:xfrm>
                <a:off x="2109960" y="0"/>
                <a:ext cx="995040" cy="6845400"/>
                <a:chOff x="2109960" y="0"/>
                <a:chExt cx="995040" cy="6845400"/>
              </a:xfrm>
            </p:grpSpPr>
            <p:sp>
              <p:nvSpPr>
                <p:cNvPr id="143" name="Rectangle 145"/>
                <p:cNvSpPr/>
                <p:nvPr/>
              </p:nvSpPr>
              <p:spPr>
                <a:xfrm>
                  <a:off x="2109960" y="0"/>
                  <a:ext cx="9950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146"/>
                <p:cNvGrpSpPr/>
                <p:nvPr/>
              </p:nvGrpSpPr>
              <p:grpSpPr>
                <a:xfrm>
                  <a:off x="2152800" y="0"/>
                  <a:ext cx="904680" cy="6845400"/>
                  <a:chOff x="2152800" y="0"/>
                  <a:chExt cx="904680" cy="6845400"/>
                </a:xfrm>
              </p:grpSpPr>
              <p:grpSp>
                <p:nvGrpSpPr>
                  <p:cNvPr id="145" name="Group 147"/>
                  <p:cNvGrpSpPr/>
                  <p:nvPr/>
                </p:nvGrpSpPr>
                <p:grpSpPr>
                  <a:xfrm>
                    <a:off x="2152800" y="0"/>
                    <a:ext cx="644400" cy="6845400"/>
                    <a:chOff x="2152800" y="0"/>
                    <a:chExt cx="644400" cy="6845400"/>
                  </a:xfrm>
                </p:grpSpPr>
                <p:sp>
                  <p:nvSpPr>
                    <p:cNvPr id="146" name="Rectangle 148"/>
                    <p:cNvSpPr/>
                    <p:nvPr/>
                  </p:nvSpPr>
                  <p:spPr>
                    <a:xfrm>
                      <a:off x="2152800" y="0"/>
                      <a:ext cx="1695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49"/>
                    <p:cNvSpPr/>
                    <p:nvPr/>
                  </p:nvSpPr>
                  <p:spPr>
                    <a:xfrm>
                      <a:off x="26258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Group 150"/>
                  <p:cNvGrpSpPr/>
                  <p:nvPr/>
                </p:nvGrpSpPr>
                <p:grpSpPr>
                  <a:xfrm>
                    <a:off x="2367000" y="0"/>
                    <a:ext cx="601560" cy="6845400"/>
                    <a:chOff x="2367000" y="0"/>
                    <a:chExt cx="601560" cy="6845400"/>
                  </a:xfrm>
                </p:grpSpPr>
                <p:sp>
                  <p:nvSpPr>
                    <p:cNvPr id="149" name="Rectangle 151"/>
                    <p:cNvSpPr/>
                    <p:nvPr/>
                  </p:nvSpPr>
                  <p:spPr>
                    <a:xfrm>
                      <a:off x="2367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Rectangle 152"/>
                    <p:cNvSpPr/>
                    <p:nvPr/>
                  </p:nvSpPr>
                  <p:spPr>
                    <a:xfrm>
                      <a:off x="28414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53"/>
                  <p:cNvGrpSpPr/>
                  <p:nvPr/>
                </p:nvGrpSpPr>
                <p:grpSpPr>
                  <a:xfrm>
                    <a:off x="2543040" y="0"/>
                    <a:ext cx="514440" cy="6845400"/>
                    <a:chOff x="2543040" y="0"/>
                    <a:chExt cx="514440" cy="6845400"/>
                  </a:xfrm>
                </p:grpSpPr>
                <p:sp>
                  <p:nvSpPr>
                    <p:cNvPr id="152" name="Rectangle 154"/>
                    <p:cNvSpPr/>
                    <p:nvPr/>
                  </p:nvSpPr>
                  <p:spPr>
                    <a:xfrm>
                      <a:off x="254304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55"/>
                    <p:cNvSpPr/>
                    <p:nvPr/>
                  </p:nvSpPr>
                  <p:spPr>
                    <a:xfrm>
                      <a:off x="30178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Group 156"/>
                <p:cNvGrpSpPr/>
                <p:nvPr/>
              </p:nvGrpSpPr>
              <p:grpSpPr>
                <a:xfrm>
                  <a:off x="2149560" y="270000"/>
                  <a:ext cx="662040" cy="6278400"/>
                  <a:chOff x="2149560" y="270000"/>
                  <a:chExt cx="662040" cy="6278400"/>
                </a:xfrm>
              </p:grpSpPr>
              <p:grpSp>
                <p:nvGrpSpPr>
                  <p:cNvPr id="155" name="Group 157"/>
                  <p:cNvGrpSpPr/>
                  <p:nvPr/>
                </p:nvGrpSpPr>
                <p:grpSpPr>
                  <a:xfrm>
                    <a:off x="2149560" y="270000"/>
                    <a:ext cx="662040" cy="1749240"/>
                    <a:chOff x="2149560" y="270000"/>
                    <a:chExt cx="662040" cy="1749240"/>
                  </a:xfrm>
                </p:grpSpPr>
                <p:sp>
                  <p:nvSpPr>
                    <p:cNvPr id="156" name="Freeform 158"/>
                    <p:cNvSpPr/>
                    <p:nvPr/>
                  </p:nvSpPr>
                  <p:spPr>
                    <a:xfrm>
                      <a:off x="262260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Freeform 159"/>
                    <p:cNvSpPr/>
                    <p:nvPr/>
                  </p:nvSpPr>
                  <p:spPr>
                    <a:xfrm>
                      <a:off x="2149560" y="27000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0"/>
                    <p:cNvSpPr/>
                    <p:nvPr/>
                  </p:nvSpPr>
                  <p:spPr>
                    <a:xfrm>
                      <a:off x="262260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Freeform 161"/>
                    <p:cNvSpPr/>
                    <p:nvPr/>
                  </p:nvSpPr>
                  <p:spPr>
                    <a:xfrm>
                      <a:off x="2149560" y="1208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62"/>
                  <p:cNvGrpSpPr/>
                  <p:nvPr/>
                </p:nvGrpSpPr>
                <p:grpSpPr>
                  <a:xfrm>
                    <a:off x="2149560" y="2536920"/>
                    <a:ext cx="662040" cy="1749240"/>
                    <a:chOff x="2149560" y="2536920"/>
                    <a:chExt cx="662040" cy="1749240"/>
                  </a:xfrm>
                </p:grpSpPr>
                <p:sp>
                  <p:nvSpPr>
                    <p:cNvPr id="161" name="Freeform 163"/>
                    <p:cNvSpPr/>
                    <p:nvPr/>
                  </p:nvSpPr>
                  <p:spPr>
                    <a:xfrm>
                      <a:off x="262260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164"/>
                    <p:cNvSpPr/>
                    <p:nvPr/>
                  </p:nvSpPr>
                  <p:spPr>
                    <a:xfrm>
                      <a:off x="2149560" y="25369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165"/>
                    <p:cNvSpPr/>
                    <p:nvPr/>
                  </p:nvSpPr>
                  <p:spPr>
                    <a:xfrm>
                      <a:off x="262260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166"/>
                    <p:cNvSpPr/>
                    <p:nvPr/>
                  </p:nvSpPr>
                  <p:spPr>
                    <a:xfrm>
                      <a:off x="2149560" y="347508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67"/>
                  <p:cNvGrpSpPr/>
                  <p:nvPr/>
                </p:nvGrpSpPr>
                <p:grpSpPr>
                  <a:xfrm>
                    <a:off x="2149560" y="4799160"/>
                    <a:ext cx="662040" cy="1749240"/>
                    <a:chOff x="2149560" y="4799160"/>
                    <a:chExt cx="662040" cy="1749240"/>
                  </a:xfrm>
                </p:grpSpPr>
                <p:sp>
                  <p:nvSpPr>
                    <p:cNvPr id="166" name="Freeform 168"/>
                    <p:cNvSpPr/>
                    <p:nvPr/>
                  </p:nvSpPr>
                  <p:spPr>
                    <a:xfrm>
                      <a:off x="262260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Freeform 169"/>
                    <p:cNvSpPr/>
                    <p:nvPr/>
                  </p:nvSpPr>
                  <p:spPr>
                    <a:xfrm>
                      <a:off x="2149560" y="479916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Freeform 170"/>
                    <p:cNvSpPr/>
                    <p:nvPr/>
                  </p:nvSpPr>
                  <p:spPr>
                    <a:xfrm>
                      <a:off x="262260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Freeform 171"/>
                    <p:cNvSpPr/>
                    <p:nvPr/>
                  </p:nvSpPr>
                  <p:spPr>
                    <a:xfrm>
                      <a:off x="2149560" y="5737320"/>
                      <a:ext cx="18900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8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172"/>
              <p:cNvGrpSpPr/>
              <p:nvPr/>
            </p:nvGrpSpPr>
            <p:grpSpPr>
              <a:xfrm>
                <a:off x="914400" y="0"/>
                <a:ext cx="996840" cy="6845400"/>
                <a:chOff x="914400" y="0"/>
                <a:chExt cx="996840" cy="6845400"/>
              </a:xfrm>
            </p:grpSpPr>
            <p:sp>
              <p:nvSpPr>
                <p:cNvPr id="171" name="Rectangle 173"/>
                <p:cNvSpPr/>
                <p:nvPr/>
              </p:nvSpPr>
              <p:spPr>
                <a:xfrm>
                  <a:off x="914400" y="0"/>
                  <a:ext cx="996840" cy="684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Group 174"/>
                <p:cNvGrpSpPr/>
                <p:nvPr/>
              </p:nvGrpSpPr>
              <p:grpSpPr>
                <a:xfrm>
                  <a:off x="958680" y="0"/>
                  <a:ext cx="903600" cy="6845400"/>
                  <a:chOff x="958680" y="0"/>
                  <a:chExt cx="903600" cy="6845400"/>
                </a:xfrm>
              </p:grpSpPr>
              <p:grpSp>
                <p:nvGrpSpPr>
                  <p:cNvPr id="173" name="Group 175"/>
                  <p:cNvGrpSpPr/>
                  <p:nvPr/>
                </p:nvGrpSpPr>
                <p:grpSpPr>
                  <a:xfrm>
                    <a:off x="958680" y="0"/>
                    <a:ext cx="644760" cy="6845400"/>
                    <a:chOff x="958680" y="0"/>
                    <a:chExt cx="644760" cy="6845400"/>
                  </a:xfrm>
                </p:grpSpPr>
                <p:sp>
                  <p:nvSpPr>
                    <p:cNvPr id="174" name="Rectangle 176"/>
                    <p:cNvSpPr/>
                    <p:nvPr/>
                  </p:nvSpPr>
                  <p:spPr>
                    <a:xfrm>
                      <a:off x="958680" y="0"/>
                      <a:ext cx="1717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77"/>
                    <p:cNvSpPr/>
                    <p:nvPr/>
                  </p:nvSpPr>
                  <p:spPr>
                    <a:xfrm>
                      <a:off x="143352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78"/>
                  <p:cNvGrpSpPr/>
                  <p:nvPr/>
                </p:nvGrpSpPr>
                <p:grpSpPr>
                  <a:xfrm>
                    <a:off x="1174680" y="0"/>
                    <a:ext cx="600120" cy="6845400"/>
                    <a:chOff x="1174680" y="0"/>
                    <a:chExt cx="600120" cy="6845400"/>
                  </a:xfrm>
                </p:grpSpPr>
                <p:sp>
                  <p:nvSpPr>
                    <p:cNvPr id="177" name="Rectangle 179"/>
                    <p:cNvSpPr/>
                    <p:nvPr/>
                  </p:nvSpPr>
                  <p:spPr>
                    <a:xfrm>
                      <a:off x="1174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80"/>
                    <p:cNvSpPr/>
                    <p:nvPr/>
                  </p:nvSpPr>
                  <p:spPr>
                    <a:xfrm>
                      <a:off x="1647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81"/>
                  <p:cNvGrpSpPr/>
                  <p:nvPr/>
                </p:nvGrpSpPr>
                <p:grpSpPr>
                  <a:xfrm>
                    <a:off x="1349280" y="0"/>
                    <a:ext cx="513000" cy="6845400"/>
                    <a:chOff x="1349280" y="0"/>
                    <a:chExt cx="513000" cy="6845400"/>
                  </a:xfrm>
                </p:grpSpPr>
                <p:sp>
                  <p:nvSpPr>
                    <p:cNvPr id="180" name="Rectangle 182"/>
                    <p:cNvSpPr/>
                    <p:nvPr/>
                  </p:nvSpPr>
                  <p:spPr>
                    <a:xfrm>
                      <a:off x="134928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83"/>
                    <p:cNvSpPr/>
                    <p:nvPr/>
                  </p:nvSpPr>
                  <p:spPr>
                    <a:xfrm>
                      <a:off x="1822320" y="0"/>
                      <a:ext cx="39960" cy="68454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" name="Group 184"/>
                <p:cNvGrpSpPr/>
                <p:nvPr/>
              </p:nvGrpSpPr>
              <p:grpSpPr>
                <a:xfrm>
                  <a:off x="954000" y="270000"/>
                  <a:ext cx="665280" cy="6278400"/>
                  <a:chOff x="954000" y="270000"/>
                  <a:chExt cx="665280" cy="6278400"/>
                </a:xfrm>
              </p:grpSpPr>
              <p:grpSp>
                <p:nvGrpSpPr>
                  <p:cNvPr id="183" name="Group 185"/>
                  <p:cNvGrpSpPr/>
                  <p:nvPr/>
                </p:nvGrpSpPr>
                <p:grpSpPr>
                  <a:xfrm>
                    <a:off x="954000" y="270000"/>
                    <a:ext cx="665280" cy="1749240"/>
                    <a:chOff x="954000" y="270000"/>
                    <a:chExt cx="665280" cy="1749240"/>
                  </a:xfrm>
                </p:grpSpPr>
                <p:sp>
                  <p:nvSpPr>
                    <p:cNvPr id="184" name="Freeform 186"/>
                    <p:cNvSpPr/>
                    <p:nvPr/>
                  </p:nvSpPr>
                  <p:spPr>
                    <a:xfrm>
                      <a:off x="1427040" y="27000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Freeform 187"/>
                    <p:cNvSpPr/>
                    <p:nvPr/>
                  </p:nvSpPr>
                  <p:spPr>
                    <a:xfrm>
                      <a:off x="954000" y="27000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Freeform 188"/>
                    <p:cNvSpPr/>
                    <p:nvPr/>
                  </p:nvSpPr>
                  <p:spPr>
                    <a:xfrm>
                      <a:off x="1427040" y="120816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Freeform 189"/>
                    <p:cNvSpPr/>
                    <p:nvPr/>
                  </p:nvSpPr>
                  <p:spPr>
                    <a:xfrm>
                      <a:off x="954000" y="1208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90"/>
                  <p:cNvGrpSpPr/>
                  <p:nvPr/>
                </p:nvGrpSpPr>
                <p:grpSpPr>
                  <a:xfrm>
                    <a:off x="954000" y="2536920"/>
                    <a:ext cx="665280" cy="1749240"/>
                    <a:chOff x="954000" y="2536920"/>
                    <a:chExt cx="665280" cy="1749240"/>
                  </a:xfrm>
                </p:grpSpPr>
                <p:sp>
                  <p:nvSpPr>
                    <p:cNvPr id="189" name="Freeform 191"/>
                    <p:cNvSpPr/>
                    <p:nvPr/>
                  </p:nvSpPr>
                  <p:spPr>
                    <a:xfrm>
                      <a:off x="1427040" y="253692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92"/>
                    <p:cNvSpPr/>
                    <p:nvPr/>
                  </p:nvSpPr>
                  <p:spPr>
                    <a:xfrm>
                      <a:off x="954000" y="25369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93"/>
                    <p:cNvSpPr/>
                    <p:nvPr/>
                  </p:nvSpPr>
                  <p:spPr>
                    <a:xfrm>
                      <a:off x="1427040" y="347508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Freeform 194"/>
                    <p:cNvSpPr/>
                    <p:nvPr/>
                  </p:nvSpPr>
                  <p:spPr>
                    <a:xfrm>
                      <a:off x="954000" y="347508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95"/>
                  <p:cNvGrpSpPr/>
                  <p:nvPr/>
                </p:nvGrpSpPr>
                <p:grpSpPr>
                  <a:xfrm>
                    <a:off x="954000" y="4799160"/>
                    <a:ext cx="665280" cy="1749240"/>
                    <a:chOff x="954000" y="4799160"/>
                    <a:chExt cx="665280" cy="1749240"/>
                  </a:xfrm>
                </p:grpSpPr>
                <p:sp>
                  <p:nvSpPr>
                    <p:cNvPr id="194" name="Freeform 196"/>
                    <p:cNvSpPr/>
                    <p:nvPr/>
                  </p:nvSpPr>
                  <p:spPr>
                    <a:xfrm>
                      <a:off x="1427040" y="479916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Freeform 197"/>
                    <p:cNvSpPr/>
                    <p:nvPr/>
                  </p:nvSpPr>
                  <p:spPr>
                    <a:xfrm>
                      <a:off x="954000" y="479916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Freeform 198"/>
                    <p:cNvSpPr/>
                    <p:nvPr/>
                  </p:nvSpPr>
                  <p:spPr>
                    <a:xfrm>
                      <a:off x="1427040" y="5737320"/>
                      <a:ext cx="1922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511">
                          <a:moveTo>
                            <a:pt x="59" y="0"/>
                          </a:moveTo>
                          <a:lnTo>
                            <a:pt x="0" y="258"/>
                          </a:lnTo>
                          <a:lnTo>
                            <a:pt x="59" y="510"/>
                          </a:lnTo>
                          <a:lnTo>
                            <a:pt x="120" y="25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199"/>
                    <p:cNvSpPr/>
                    <p:nvPr/>
                  </p:nvSpPr>
                  <p:spPr>
                    <a:xfrm>
                      <a:off x="954000" y="5737320"/>
                      <a:ext cx="190440" cy="81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511">
                          <a:moveTo>
                            <a:pt x="58" y="0"/>
                          </a:moveTo>
                          <a:lnTo>
                            <a:pt x="0" y="258"/>
                          </a:lnTo>
                          <a:lnTo>
                            <a:pt x="58" y="510"/>
                          </a:lnTo>
                          <a:lnTo>
                            <a:pt x="119" y="25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Group 200"/>
            <p:cNvGrpSpPr/>
            <p:nvPr/>
          </p:nvGrpSpPr>
          <p:grpSpPr>
            <a:xfrm>
              <a:off x="76320" y="1676520"/>
              <a:ext cx="707760" cy="5168880"/>
              <a:chOff x="76320" y="1676520"/>
              <a:chExt cx="707760" cy="5168880"/>
            </a:xfrm>
          </p:grpSpPr>
          <p:grpSp>
            <p:nvGrpSpPr>
              <p:cNvPr id="199" name="Group 201"/>
              <p:cNvGrpSpPr/>
              <p:nvPr/>
            </p:nvGrpSpPr>
            <p:grpSpPr>
              <a:xfrm>
                <a:off x="76320" y="1676520"/>
                <a:ext cx="707760" cy="5168880"/>
                <a:chOff x="76320" y="1676520"/>
                <a:chExt cx="707760" cy="5168880"/>
              </a:xfrm>
            </p:grpSpPr>
            <p:sp>
              <p:nvSpPr>
                <p:cNvPr id="200" name="Rectangle 202"/>
                <p:cNvSpPr/>
                <p:nvPr/>
              </p:nvSpPr>
              <p:spPr>
                <a:xfrm>
                  <a:off x="76320" y="1676520"/>
                  <a:ext cx="707760" cy="5168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203"/>
                <p:cNvGrpSpPr/>
                <p:nvPr/>
              </p:nvGrpSpPr>
              <p:grpSpPr>
                <a:xfrm>
                  <a:off x="109440" y="1676520"/>
                  <a:ext cx="639720" cy="5168880"/>
                  <a:chOff x="109440" y="1676520"/>
                  <a:chExt cx="639720" cy="5168880"/>
                </a:xfrm>
              </p:grpSpPr>
              <p:grpSp>
                <p:nvGrpSpPr>
                  <p:cNvPr id="202" name="Group 204"/>
                  <p:cNvGrpSpPr/>
                  <p:nvPr/>
                </p:nvGrpSpPr>
                <p:grpSpPr>
                  <a:xfrm>
                    <a:off x="109440" y="1676520"/>
                    <a:ext cx="639720" cy="5168880"/>
                    <a:chOff x="109440" y="1676520"/>
                    <a:chExt cx="639720" cy="5168880"/>
                  </a:xfrm>
                </p:grpSpPr>
                <p:grpSp>
                  <p:nvGrpSpPr>
                    <p:cNvPr id="203" name="Group 205"/>
                    <p:cNvGrpSpPr/>
                    <p:nvPr/>
                  </p:nvGrpSpPr>
                  <p:grpSpPr>
                    <a:xfrm>
                      <a:off x="109440" y="1676520"/>
                      <a:ext cx="468360" cy="5168880"/>
                      <a:chOff x="109440" y="1676520"/>
                      <a:chExt cx="468360" cy="5168880"/>
                    </a:xfrm>
                  </p:grpSpPr>
                  <p:sp>
                    <p:nvSpPr>
                      <p:cNvPr id="204" name="Rectangle 206"/>
                      <p:cNvSpPr/>
                      <p:nvPr/>
                    </p:nvSpPr>
                    <p:spPr>
                      <a:xfrm>
                        <a:off x="109440" y="1676520"/>
                        <a:ext cx="1317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Rectangle 207"/>
                      <p:cNvSpPr/>
                      <p:nvPr/>
                    </p:nvSpPr>
                    <p:spPr>
                      <a:xfrm>
                        <a:off x="447840" y="1676520"/>
                        <a:ext cx="129960" cy="516888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6" name="Rectangle 208"/>
                    <p:cNvSpPr/>
                    <p:nvPr/>
                  </p:nvSpPr>
                  <p:spPr>
                    <a:xfrm>
                      <a:off x="274680" y="1676520"/>
                      <a:ext cx="73080" cy="516888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" name="Group 209"/>
                    <p:cNvGrpSpPr/>
                    <p:nvPr/>
                  </p:nvGrpSpPr>
                  <p:grpSpPr>
                    <a:xfrm>
                      <a:off x="384120" y="1676520"/>
                      <a:ext cx="365040" cy="5168880"/>
                      <a:chOff x="384120" y="1676520"/>
                      <a:chExt cx="365040" cy="5168880"/>
                    </a:xfrm>
                  </p:grpSpPr>
                  <p:sp>
                    <p:nvSpPr>
                      <p:cNvPr id="208" name="Rectangle 210"/>
                      <p:cNvSpPr/>
                      <p:nvPr/>
                    </p:nvSpPr>
                    <p:spPr>
                      <a:xfrm>
                        <a:off x="384120" y="1676520"/>
                        <a:ext cx="3024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Rectangle 211"/>
                      <p:cNvSpPr/>
                      <p:nvPr/>
                    </p:nvSpPr>
                    <p:spPr>
                      <a:xfrm>
                        <a:off x="719280" y="1676520"/>
                        <a:ext cx="29880" cy="516888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Rectangle 212"/>
                  <p:cNvSpPr/>
                  <p:nvPr/>
                </p:nvSpPr>
                <p:spPr>
                  <a:xfrm>
                    <a:off x="612720" y="1676520"/>
                    <a:ext cx="73080" cy="51688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Group 213"/>
              <p:cNvGrpSpPr/>
              <p:nvPr/>
            </p:nvGrpSpPr>
            <p:grpSpPr>
              <a:xfrm>
                <a:off x="106200" y="1878120"/>
                <a:ext cx="484200" cy="4741920"/>
                <a:chOff x="106200" y="1878120"/>
                <a:chExt cx="484200" cy="4741920"/>
              </a:xfrm>
            </p:grpSpPr>
            <p:grpSp>
              <p:nvGrpSpPr>
                <p:cNvPr id="212" name="Group 214"/>
                <p:cNvGrpSpPr/>
                <p:nvPr/>
              </p:nvGrpSpPr>
              <p:grpSpPr>
                <a:xfrm>
                  <a:off x="106200" y="3591000"/>
                  <a:ext cx="484200" cy="1324080"/>
                  <a:chOff x="106200" y="3591000"/>
                  <a:chExt cx="484200" cy="1324080"/>
                </a:xfrm>
              </p:grpSpPr>
              <p:sp>
                <p:nvSpPr>
                  <p:cNvPr id="213" name="Freeform 215"/>
                  <p:cNvSpPr/>
                  <p:nvPr/>
                </p:nvSpPr>
                <p:spPr>
                  <a:xfrm>
                    <a:off x="444600" y="3591000"/>
                    <a:ext cx="145800" cy="614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7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6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216"/>
                  <p:cNvSpPr/>
                  <p:nvPr/>
                </p:nvSpPr>
                <p:spPr>
                  <a:xfrm>
                    <a:off x="106200" y="3591000"/>
                    <a:ext cx="146160" cy="614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7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6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217"/>
                  <p:cNvSpPr/>
                  <p:nvPr/>
                </p:nvSpPr>
                <p:spPr>
                  <a:xfrm>
                    <a:off x="444600" y="429912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Freeform 218"/>
                  <p:cNvSpPr/>
                  <p:nvPr/>
                </p:nvSpPr>
                <p:spPr>
                  <a:xfrm>
                    <a:off x="106200" y="429912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Group 219"/>
                <p:cNvGrpSpPr/>
                <p:nvPr/>
              </p:nvGrpSpPr>
              <p:grpSpPr>
                <a:xfrm>
                  <a:off x="106200" y="5300640"/>
                  <a:ext cx="484200" cy="1319400"/>
                  <a:chOff x="106200" y="5300640"/>
                  <a:chExt cx="484200" cy="1319400"/>
                </a:xfrm>
              </p:grpSpPr>
              <p:sp>
                <p:nvSpPr>
                  <p:cNvPr id="218" name="Freeform 220"/>
                  <p:cNvSpPr/>
                  <p:nvPr/>
                </p:nvSpPr>
                <p:spPr>
                  <a:xfrm>
                    <a:off x="444600" y="5300640"/>
                    <a:ext cx="1458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221"/>
                  <p:cNvSpPr/>
                  <p:nvPr/>
                </p:nvSpPr>
                <p:spPr>
                  <a:xfrm>
                    <a:off x="106200" y="5300640"/>
                    <a:ext cx="14616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222"/>
                  <p:cNvSpPr/>
                  <p:nvPr/>
                </p:nvSpPr>
                <p:spPr>
                  <a:xfrm>
                    <a:off x="444600" y="6010200"/>
                    <a:ext cx="145800" cy="60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223"/>
                  <p:cNvSpPr/>
                  <p:nvPr/>
                </p:nvSpPr>
                <p:spPr>
                  <a:xfrm>
                    <a:off x="106200" y="6010200"/>
                    <a:ext cx="146160" cy="60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4">
                        <a:moveTo>
                          <a:pt x="44" y="0"/>
                        </a:moveTo>
                        <a:lnTo>
                          <a:pt x="0" y="193"/>
                        </a:lnTo>
                        <a:lnTo>
                          <a:pt x="44" y="383"/>
                        </a:lnTo>
                        <a:lnTo>
                          <a:pt x="91" y="19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224"/>
                <p:cNvGrpSpPr/>
                <p:nvPr/>
              </p:nvGrpSpPr>
              <p:grpSpPr>
                <a:xfrm>
                  <a:off x="106200" y="1878120"/>
                  <a:ext cx="484200" cy="1325520"/>
                  <a:chOff x="106200" y="1878120"/>
                  <a:chExt cx="484200" cy="1325520"/>
                </a:xfrm>
              </p:grpSpPr>
              <p:sp>
                <p:nvSpPr>
                  <p:cNvPr id="223" name="Freeform 225"/>
                  <p:cNvSpPr/>
                  <p:nvPr/>
                </p:nvSpPr>
                <p:spPr>
                  <a:xfrm>
                    <a:off x="444600" y="258768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226"/>
                  <p:cNvSpPr/>
                  <p:nvPr/>
                </p:nvSpPr>
                <p:spPr>
                  <a:xfrm>
                    <a:off x="106200" y="258768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227"/>
                  <p:cNvSpPr/>
                  <p:nvPr/>
                </p:nvSpPr>
                <p:spPr>
                  <a:xfrm>
                    <a:off x="444600" y="1878120"/>
                    <a:ext cx="1458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228"/>
                  <p:cNvSpPr/>
                  <p:nvPr/>
                </p:nvSpPr>
                <p:spPr>
                  <a:xfrm>
                    <a:off x="106200" y="1878120"/>
                    <a:ext cx="14616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8">
                        <a:moveTo>
                          <a:pt x="44" y="0"/>
                        </a:moveTo>
                        <a:lnTo>
                          <a:pt x="0" y="195"/>
                        </a:lnTo>
                        <a:lnTo>
                          <a:pt x="44" y="387"/>
                        </a:lnTo>
                        <a:lnTo>
                          <a:pt x="91" y="19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7" name="Group 229"/>
            <p:cNvGrpSpPr/>
            <p:nvPr/>
          </p:nvGrpSpPr>
          <p:grpSpPr>
            <a:xfrm>
              <a:off x="76320" y="0"/>
              <a:ext cx="707760" cy="615960"/>
              <a:chOff x="76320" y="0"/>
              <a:chExt cx="707760" cy="615960"/>
            </a:xfrm>
          </p:grpSpPr>
          <p:grpSp>
            <p:nvGrpSpPr>
              <p:cNvPr id="228" name="Group 230"/>
              <p:cNvGrpSpPr/>
              <p:nvPr/>
            </p:nvGrpSpPr>
            <p:grpSpPr>
              <a:xfrm>
                <a:off x="76320" y="0"/>
                <a:ext cx="707760" cy="609480"/>
                <a:chOff x="76320" y="0"/>
                <a:chExt cx="707760" cy="609480"/>
              </a:xfrm>
            </p:grpSpPr>
            <p:sp>
              <p:nvSpPr>
                <p:cNvPr id="229" name="Rectangle 231"/>
                <p:cNvSpPr/>
                <p:nvPr/>
              </p:nvSpPr>
              <p:spPr>
                <a:xfrm>
                  <a:off x="76320" y="0"/>
                  <a:ext cx="707760" cy="6094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Group 232"/>
                <p:cNvGrpSpPr/>
                <p:nvPr/>
              </p:nvGrpSpPr>
              <p:grpSpPr>
                <a:xfrm>
                  <a:off x="109440" y="0"/>
                  <a:ext cx="639720" cy="609480"/>
                  <a:chOff x="109440" y="0"/>
                  <a:chExt cx="639720" cy="609480"/>
                </a:xfrm>
              </p:grpSpPr>
              <p:grpSp>
                <p:nvGrpSpPr>
                  <p:cNvPr id="231" name="Group 233"/>
                  <p:cNvGrpSpPr/>
                  <p:nvPr/>
                </p:nvGrpSpPr>
                <p:grpSpPr>
                  <a:xfrm>
                    <a:off x="109440" y="0"/>
                    <a:ext cx="468360" cy="609480"/>
                    <a:chOff x="109440" y="0"/>
                    <a:chExt cx="468360" cy="609480"/>
                  </a:xfrm>
                </p:grpSpPr>
                <p:sp>
                  <p:nvSpPr>
                    <p:cNvPr id="232" name="Rectangle 234"/>
                    <p:cNvSpPr/>
                    <p:nvPr/>
                  </p:nvSpPr>
                  <p:spPr>
                    <a:xfrm>
                      <a:off x="109440" y="0"/>
                      <a:ext cx="1317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235"/>
                    <p:cNvSpPr/>
                    <p:nvPr/>
                  </p:nvSpPr>
                  <p:spPr>
                    <a:xfrm>
                      <a:off x="447840" y="0"/>
                      <a:ext cx="129960" cy="609480"/>
                    </a:xfrm>
                    <a:prstGeom prst="rect">
                      <a:avLst/>
                    </a:prstGeom>
                    <a:solidFill>
                      <a:srgbClr val="ffff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Rectangle 236"/>
                  <p:cNvSpPr/>
                  <p:nvPr/>
                </p:nvSpPr>
                <p:spPr>
                  <a:xfrm>
                    <a:off x="274680" y="0"/>
                    <a:ext cx="73080" cy="60948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Group 237"/>
                  <p:cNvGrpSpPr/>
                  <p:nvPr/>
                </p:nvGrpSpPr>
                <p:grpSpPr>
                  <a:xfrm>
                    <a:off x="384120" y="0"/>
                    <a:ext cx="365040" cy="609480"/>
                    <a:chOff x="384120" y="0"/>
                    <a:chExt cx="365040" cy="609480"/>
                  </a:xfrm>
                </p:grpSpPr>
                <p:sp>
                  <p:nvSpPr>
                    <p:cNvPr id="236" name="Rectangle 238"/>
                    <p:cNvSpPr/>
                    <p:nvPr/>
                  </p:nvSpPr>
                  <p:spPr>
                    <a:xfrm>
                      <a:off x="384120" y="0"/>
                      <a:ext cx="3024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Rectangle 239"/>
                    <p:cNvSpPr/>
                    <p:nvPr/>
                  </p:nvSpPr>
                  <p:spPr>
                    <a:xfrm>
                      <a:off x="719280" y="0"/>
                      <a:ext cx="29880" cy="609480"/>
                    </a:xfrm>
                    <a:prstGeom prst="rect">
                      <a:avLst/>
                    </a:prstGeom>
                    <a:solidFill>
                      <a:srgbClr val="ad9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8" name="Rectangle 240"/>
                <p:cNvSpPr/>
                <p:nvPr/>
              </p:nvSpPr>
              <p:spPr>
                <a:xfrm>
                  <a:off x="612720" y="0"/>
                  <a:ext cx="73080" cy="609480"/>
                </a:xfrm>
                <a:prstGeom prst="rect">
                  <a:avLst/>
                </a:prstGeom>
                <a:solidFill>
                  <a:srgbClr val="7cd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Freeform 241"/>
              <p:cNvSpPr/>
              <p:nvPr/>
            </p:nvSpPr>
            <p:spPr>
              <a:xfrm>
                <a:off x="444600" y="0"/>
                <a:ext cx="145800" cy="615960"/>
              </a:xfrm>
              <a:custGeom>
                <a:avLst/>
                <a:gdLst/>
                <a:ahLst/>
                <a:rect l="l" t="t" r="r" b="b"/>
                <a:pathLst>
                  <a:path w="92" h="388">
                    <a:moveTo>
                      <a:pt x="44" y="0"/>
                    </a:moveTo>
                    <a:lnTo>
                      <a:pt x="0" y="195"/>
                    </a:lnTo>
                    <a:lnTo>
                      <a:pt x="44" y="387"/>
                    </a:lnTo>
                    <a:lnTo>
                      <a:pt x="91" y="195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106200" y="0"/>
                <a:ext cx="146160" cy="615960"/>
              </a:xfrm>
              <a:custGeom>
                <a:avLst/>
                <a:gdLst/>
                <a:ahLst/>
                <a:rect l="l" t="t" r="r" b="b"/>
                <a:pathLst>
                  <a:path w="92" h="388">
                    <a:moveTo>
                      <a:pt x="44" y="0"/>
                    </a:moveTo>
                    <a:lnTo>
                      <a:pt x="0" y="195"/>
                    </a:lnTo>
                    <a:lnTo>
                      <a:pt x="44" y="387"/>
                    </a:lnTo>
                    <a:lnTo>
                      <a:pt x="91" y="195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0" y="609480"/>
              <a:ext cx="1066680" cy="1143000"/>
              <a:chOff x="0" y="609480"/>
              <a:chExt cx="1066680" cy="114300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0" y="609480"/>
                <a:ext cx="1066680" cy="1143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233280" y="609480"/>
                <a:ext cx="633600" cy="1143000"/>
              </a:xfrm>
              <a:prstGeom prst="rect">
                <a:avLst/>
              </a:pr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76320" y="609480"/>
                <a:ext cx="7452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909720" y="609480"/>
                <a:ext cx="73080" cy="1143000"/>
              </a:xfrm>
              <a:prstGeom prst="rect">
                <a:avLst/>
              </a:prstGeom>
              <a:solidFill>
                <a:srgbClr val="ad9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255600" y="649440"/>
                <a:ext cx="612720" cy="1091880"/>
              </a:xfrm>
              <a:custGeom>
                <a:avLst/>
                <a:gdLst/>
                <a:ahLst/>
                <a:rect l="l" t="t" r="r" b="b"/>
                <a:pathLst>
                  <a:path w="386" h="688">
                    <a:moveTo>
                      <a:pt x="186" y="0"/>
                    </a:moveTo>
                    <a:lnTo>
                      <a:pt x="0" y="347"/>
                    </a:lnTo>
                    <a:lnTo>
                      <a:pt x="186" y="687"/>
                    </a:lnTo>
                    <a:lnTo>
                      <a:pt x="385" y="347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7cd3c6"/>
              </a:solidFill>
              <a:ln cap="rnd" w="255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B74-F437-4E9C-892D-B0927C5C5F4E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11160"/>
            <a:ext cx="9074160" cy="6313320"/>
            <a:chOff x="0" y="11160"/>
            <a:chExt cx="9074160" cy="6313320"/>
          </a:xfrm>
        </p:grpSpPr>
        <p:grpSp>
          <p:nvGrpSpPr>
            <p:cNvPr id="289" name="Group 3"/>
            <p:cNvGrpSpPr/>
            <p:nvPr/>
          </p:nvGrpSpPr>
          <p:grpSpPr>
            <a:xfrm>
              <a:off x="914400" y="1066680"/>
              <a:ext cx="8159760" cy="5257800"/>
              <a:chOff x="914400" y="1066680"/>
              <a:chExt cx="8159760" cy="5257800"/>
            </a:xfrm>
          </p:grpSpPr>
          <p:grpSp>
            <p:nvGrpSpPr>
              <p:cNvPr id="290" name="Group 4"/>
              <p:cNvGrpSpPr/>
              <p:nvPr/>
            </p:nvGrpSpPr>
            <p:grpSpPr>
              <a:xfrm>
                <a:off x="8077320" y="1066680"/>
                <a:ext cx="996840" cy="5257800"/>
                <a:chOff x="8077320" y="1066680"/>
                <a:chExt cx="996840" cy="5257800"/>
              </a:xfrm>
            </p:grpSpPr>
            <p:sp>
              <p:nvSpPr>
                <p:cNvPr id="291" name="Rectangle 5"/>
                <p:cNvSpPr/>
                <p:nvPr/>
              </p:nvSpPr>
              <p:spPr>
                <a:xfrm>
                  <a:off x="807732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6"/>
                <p:cNvGrpSpPr/>
                <p:nvPr/>
              </p:nvGrpSpPr>
              <p:grpSpPr>
                <a:xfrm>
                  <a:off x="8121600" y="1066680"/>
                  <a:ext cx="903240" cy="5257800"/>
                  <a:chOff x="8121600" y="1066680"/>
                  <a:chExt cx="903240" cy="5257800"/>
                </a:xfrm>
              </p:grpSpPr>
              <p:grpSp>
                <p:nvGrpSpPr>
                  <p:cNvPr id="293" name="Group 7"/>
                  <p:cNvGrpSpPr/>
                  <p:nvPr/>
                </p:nvGrpSpPr>
                <p:grpSpPr>
                  <a:xfrm>
                    <a:off x="8121600" y="1066680"/>
                    <a:ext cx="644400" cy="5257800"/>
                    <a:chOff x="8121600" y="1066680"/>
                    <a:chExt cx="644400" cy="5257800"/>
                  </a:xfrm>
                </p:grpSpPr>
                <p:sp>
                  <p:nvSpPr>
                    <p:cNvPr id="294" name="Rectangle 8"/>
                    <p:cNvSpPr/>
                    <p:nvPr/>
                  </p:nvSpPr>
                  <p:spPr>
                    <a:xfrm>
                      <a:off x="812160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Rectangle 9"/>
                    <p:cNvSpPr/>
                    <p:nvPr/>
                  </p:nvSpPr>
                  <p:spPr>
                    <a:xfrm>
                      <a:off x="8594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10"/>
                  <p:cNvGrpSpPr/>
                  <p:nvPr/>
                </p:nvGrpSpPr>
                <p:grpSpPr>
                  <a:xfrm>
                    <a:off x="8337600" y="1066680"/>
                    <a:ext cx="600120" cy="5257800"/>
                    <a:chOff x="8337600" y="1066680"/>
                    <a:chExt cx="600120" cy="5257800"/>
                  </a:xfrm>
                </p:grpSpPr>
                <p:sp>
                  <p:nvSpPr>
                    <p:cNvPr id="297" name="Rectangle 11"/>
                    <p:cNvSpPr/>
                    <p:nvPr/>
                  </p:nvSpPr>
                  <p:spPr>
                    <a:xfrm>
                      <a:off x="8337600" y="1066680"/>
                      <a:ext cx="1252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Rectangle 12"/>
                    <p:cNvSpPr/>
                    <p:nvPr/>
                  </p:nvSpPr>
                  <p:spPr>
                    <a:xfrm>
                      <a:off x="881064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13"/>
                  <p:cNvGrpSpPr/>
                  <p:nvPr/>
                </p:nvGrpSpPr>
                <p:grpSpPr>
                  <a:xfrm>
                    <a:off x="8510760" y="1066680"/>
                    <a:ext cx="514080" cy="5257800"/>
                    <a:chOff x="8510760" y="1066680"/>
                    <a:chExt cx="514080" cy="5257800"/>
                  </a:xfrm>
                </p:grpSpPr>
                <p:sp>
                  <p:nvSpPr>
                    <p:cNvPr id="300" name="Rectangle 14"/>
                    <p:cNvSpPr/>
                    <p:nvPr/>
                  </p:nvSpPr>
                  <p:spPr>
                    <a:xfrm>
                      <a:off x="85107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Rectangle 15"/>
                    <p:cNvSpPr/>
                    <p:nvPr/>
                  </p:nvSpPr>
                  <p:spPr>
                    <a:xfrm>
                      <a:off x="89852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Group 16"/>
                <p:cNvGrpSpPr/>
                <p:nvPr/>
              </p:nvGrpSpPr>
              <p:grpSpPr>
                <a:xfrm>
                  <a:off x="8116920" y="1274760"/>
                  <a:ext cx="663480" cy="4821120"/>
                  <a:chOff x="8116920" y="1274760"/>
                  <a:chExt cx="663480" cy="4821120"/>
                </a:xfrm>
              </p:grpSpPr>
              <p:grpSp>
                <p:nvGrpSpPr>
                  <p:cNvPr id="303" name="Group 17"/>
                  <p:cNvGrpSpPr/>
                  <p:nvPr/>
                </p:nvGrpSpPr>
                <p:grpSpPr>
                  <a:xfrm>
                    <a:off x="8116920" y="1274760"/>
                    <a:ext cx="663480" cy="1341360"/>
                    <a:chOff x="8116920" y="1274760"/>
                    <a:chExt cx="663480" cy="1341360"/>
                  </a:xfrm>
                </p:grpSpPr>
                <p:sp>
                  <p:nvSpPr>
                    <p:cNvPr id="304" name="Freeform 18"/>
                    <p:cNvSpPr/>
                    <p:nvPr/>
                  </p:nvSpPr>
                  <p:spPr>
                    <a:xfrm>
                      <a:off x="85899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Freeform 19"/>
                    <p:cNvSpPr/>
                    <p:nvPr/>
                  </p:nvSpPr>
                  <p:spPr>
                    <a:xfrm>
                      <a:off x="811692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Freeform 20"/>
                    <p:cNvSpPr/>
                    <p:nvPr/>
                  </p:nvSpPr>
                  <p:spPr>
                    <a:xfrm>
                      <a:off x="85899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21"/>
                    <p:cNvSpPr/>
                    <p:nvPr/>
                  </p:nvSpPr>
                  <p:spPr>
                    <a:xfrm>
                      <a:off x="811692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22"/>
                  <p:cNvGrpSpPr/>
                  <p:nvPr/>
                </p:nvGrpSpPr>
                <p:grpSpPr>
                  <a:xfrm>
                    <a:off x="8116920" y="3014640"/>
                    <a:ext cx="663480" cy="1344600"/>
                    <a:chOff x="8116920" y="3014640"/>
                    <a:chExt cx="663480" cy="1344600"/>
                  </a:xfrm>
                </p:grpSpPr>
                <p:sp>
                  <p:nvSpPr>
                    <p:cNvPr id="309" name="Freeform 23"/>
                    <p:cNvSpPr/>
                    <p:nvPr/>
                  </p:nvSpPr>
                  <p:spPr>
                    <a:xfrm>
                      <a:off x="85899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24"/>
                    <p:cNvSpPr/>
                    <p:nvPr/>
                  </p:nvSpPr>
                  <p:spPr>
                    <a:xfrm>
                      <a:off x="811692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Freeform 25"/>
                    <p:cNvSpPr/>
                    <p:nvPr/>
                  </p:nvSpPr>
                  <p:spPr>
                    <a:xfrm>
                      <a:off x="85899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26"/>
                    <p:cNvSpPr/>
                    <p:nvPr/>
                  </p:nvSpPr>
                  <p:spPr>
                    <a:xfrm>
                      <a:off x="811692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Group 27"/>
                  <p:cNvGrpSpPr/>
                  <p:nvPr/>
                </p:nvGrpSpPr>
                <p:grpSpPr>
                  <a:xfrm>
                    <a:off x="8116920" y="4751280"/>
                    <a:ext cx="663480" cy="1344600"/>
                    <a:chOff x="8116920" y="4751280"/>
                    <a:chExt cx="663480" cy="1344600"/>
                  </a:xfrm>
                </p:grpSpPr>
                <p:sp>
                  <p:nvSpPr>
                    <p:cNvPr id="314" name="Freeform 28"/>
                    <p:cNvSpPr/>
                    <p:nvPr/>
                  </p:nvSpPr>
                  <p:spPr>
                    <a:xfrm>
                      <a:off x="85899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Freeform 29"/>
                    <p:cNvSpPr/>
                    <p:nvPr/>
                  </p:nvSpPr>
                  <p:spPr>
                    <a:xfrm>
                      <a:off x="811692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30"/>
                    <p:cNvSpPr/>
                    <p:nvPr/>
                  </p:nvSpPr>
                  <p:spPr>
                    <a:xfrm>
                      <a:off x="85899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31"/>
                    <p:cNvSpPr/>
                    <p:nvPr/>
                  </p:nvSpPr>
                  <p:spPr>
                    <a:xfrm>
                      <a:off x="811692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8" name="Group 32"/>
              <p:cNvGrpSpPr/>
              <p:nvPr/>
            </p:nvGrpSpPr>
            <p:grpSpPr>
              <a:xfrm>
                <a:off x="6883560" y="1066680"/>
                <a:ext cx="995040" cy="5257800"/>
                <a:chOff x="6883560" y="1066680"/>
                <a:chExt cx="995040" cy="5257800"/>
              </a:xfrm>
            </p:grpSpPr>
            <p:sp>
              <p:nvSpPr>
                <p:cNvPr id="319" name="Rectangle 33"/>
                <p:cNvSpPr/>
                <p:nvPr/>
              </p:nvSpPr>
              <p:spPr>
                <a:xfrm>
                  <a:off x="68835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34"/>
                <p:cNvGrpSpPr/>
                <p:nvPr/>
              </p:nvGrpSpPr>
              <p:grpSpPr>
                <a:xfrm>
                  <a:off x="6927840" y="1066680"/>
                  <a:ext cx="903240" cy="5257800"/>
                  <a:chOff x="6927840" y="1066680"/>
                  <a:chExt cx="903240" cy="5257800"/>
                </a:xfrm>
              </p:grpSpPr>
              <p:grpSp>
                <p:nvGrpSpPr>
                  <p:cNvPr id="321" name="Group 35"/>
                  <p:cNvGrpSpPr/>
                  <p:nvPr/>
                </p:nvGrpSpPr>
                <p:grpSpPr>
                  <a:xfrm>
                    <a:off x="6927840" y="1066680"/>
                    <a:ext cx="646200" cy="5257800"/>
                    <a:chOff x="6927840" y="1066680"/>
                    <a:chExt cx="646200" cy="5257800"/>
                  </a:xfrm>
                </p:grpSpPr>
                <p:sp>
                  <p:nvSpPr>
                    <p:cNvPr id="322" name="Rectangle 36"/>
                    <p:cNvSpPr/>
                    <p:nvPr/>
                  </p:nvSpPr>
                  <p:spPr>
                    <a:xfrm>
                      <a:off x="6927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37"/>
                    <p:cNvSpPr/>
                    <p:nvPr/>
                  </p:nvSpPr>
                  <p:spPr>
                    <a:xfrm>
                      <a:off x="740268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38"/>
                  <p:cNvGrpSpPr/>
                  <p:nvPr/>
                </p:nvGrpSpPr>
                <p:grpSpPr>
                  <a:xfrm>
                    <a:off x="7142040" y="1066680"/>
                    <a:ext cx="601920" cy="5257800"/>
                    <a:chOff x="7142040" y="1066680"/>
                    <a:chExt cx="601920" cy="5257800"/>
                  </a:xfrm>
                </p:grpSpPr>
                <p:sp>
                  <p:nvSpPr>
                    <p:cNvPr id="325" name="Rectangle 39"/>
                    <p:cNvSpPr/>
                    <p:nvPr/>
                  </p:nvSpPr>
                  <p:spPr>
                    <a:xfrm>
                      <a:off x="714204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Rectangle 40"/>
                    <p:cNvSpPr/>
                    <p:nvPr/>
                  </p:nvSpPr>
                  <p:spPr>
                    <a:xfrm>
                      <a:off x="7615080" y="1066680"/>
                      <a:ext cx="1288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41"/>
                  <p:cNvGrpSpPr/>
                  <p:nvPr/>
                </p:nvGrpSpPr>
                <p:grpSpPr>
                  <a:xfrm>
                    <a:off x="7318440" y="1066680"/>
                    <a:ext cx="512640" cy="5257800"/>
                    <a:chOff x="7318440" y="1066680"/>
                    <a:chExt cx="512640" cy="5257800"/>
                  </a:xfrm>
                </p:grpSpPr>
                <p:sp>
                  <p:nvSpPr>
                    <p:cNvPr id="328" name="Rectangle 42"/>
                    <p:cNvSpPr/>
                    <p:nvPr/>
                  </p:nvSpPr>
                  <p:spPr>
                    <a:xfrm>
                      <a:off x="731844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43"/>
                    <p:cNvSpPr/>
                    <p:nvPr/>
                  </p:nvSpPr>
                  <p:spPr>
                    <a:xfrm>
                      <a:off x="77914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0" name="Group 44"/>
                <p:cNvGrpSpPr/>
                <p:nvPr/>
              </p:nvGrpSpPr>
              <p:grpSpPr>
                <a:xfrm>
                  <a:off x="6923160" y="1274760"/>
                  <a:ext cx="664920" cy="4821120"/>
                  <a:chOff x="6923160" y="1274760"/>
                  <a:chExt cx="664920" cy="4821120"/>
                </a:xfrm>
              </p:grpSpPr>
              <p:grpSp>
                <p:nvGrpSpPr>
                  <p:cNvPr id="331" name="Group 45"/>
                  <p:cNvGrpSpPr/>
                  <p:nvPr/>
                </p:nvGrpSpPr>
                <p:grpSpPr>
                  <a:xfrm>
                    <a:off x="6923160" y="1274760"/>
                    <a:ext cx="664920" cy="1341360"/>
                    <a:chOff x="6923160" y="1274760"/>
                    <a:chExt cx="664920" cy="1341360"/>
                  </a:xfrm>
                </p:grpSpPr>
                <p:sp>
                  <p:nvSpPr>
                    <p:cNvPr id="332" name="Freeform 46"/>
                    <p:cNvSpPr/>
                    <p:nvPr/>
                  </p:nvSpPr>
                  <p:spPr>
                    <a:xfrm>
                      <a:off x="739764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Freeform 47"/>
                    <p:cNvSpPr/>
                    <p:nvPr/>
                  </p:nvSpPr>
                  <p:spPr>
                    <a:xfrm>
                      <a:off x="69231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Freeform 48"/>
                    <p:cNvSpPr/>
                    <p:nvPr/>
                  </p:nvSpPr>
                  <p:spPr>
                    <a:xfrm>
                      <a:off x="739764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49"/>
                    <p:cNvSpPr/>
                    <p:nvPr/>
                  </p:nvSpPr>
                  <p:spPr>
                    <a:xfrm>
                      <a:off x="69231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50"/>
                  <p:cNvGrpSpPr/>
                  <p:nvPr/>
                </p:nvGrpSpPr>
                <p:grpSpPr>
                  <a:xfrm>
                    <a:off x="6923160" y="3014640"/>
                    <a:ext cx="664920" cy="1344600"/>
                    <a:chOff x="6923160" y="3014640"/>
                    <a:chExt cx="664920" cy="1344600"/>
                  </a:xfrm>
                </p:grpSpPr>
                <p:sp>
                  <p:nvSpPr>
                    <p:cNvPr id="337" name="Freeform 51"/>
                    <p:cNvSpPr/>
                    <p:nvPr/>
                  </p:nvSpPr>
                  <p:spPr>
                    <a:xfrm>
                      <a:off x="739764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52"/>
                    <p:cNvSpPr/>
                    <p:nvPr/>
                  </p:nvSpPr>
                  <p:spPr>
                    <a:xfrm>
                      <a:off x="69231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53"/>
                    <p:cNvSpPr/>
                    <p:nvPr/>
                  </p:nvSpPr>
                  <p:spPr>
                    <a:xfrm>
                      <a:off x="739764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Freeform 54"/>
                    <p:cNvSpPr/>
                    <p:nvPr/>
                  </p:nvSpPr>
                  <p:spPr>
                    <a:xfrm>
                      <a:off x="69231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Group 55"/>
                  <p:cNvGrpSpPr/>
                  <p:nvPr/>
                </p:nvGrpSpPr>
                <p:grpSpPr>
                  <a:xfrm>
                    <a:off x="6923160" y="4751280"/>
                    <a:ext cx="664920" cy="1344600"/>
                    <a:chOff x="6923160" y="4751280"/>
                    <a:chExt cx="664920" cy="1344600"/>
                  </a:xfrm>
                </p:grpSpPr>
                <p:sp>
                  <p:nvSpPr>
                    <p:cNvPr id="342" name="Freeform 56"/>
                    <p:cNvSpPr/>
                    <p:nvPr/>
                  </p:nvSpPr>
                  <p:spPr>
                    <a:xfrm>
                      <a:off x="739764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Freeform 57"/>
                    <p:cNvSpPr/>
                    <p:nvPr/>
                  </p:nvSpPr>
                  <p:spPr>
                    <a:xfrm>
                      <a:off x="69231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58"/>
                    <p:cNvSpPr/>
                    <p:nvPr/>
                  </p:nvSpPr>
                  <p:spPr>
                    <a:xfrm>
                      <a:off x="739764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59"/>
                    <p:cNvSpPr/>
                    <p:nvPr/>
                  </p:nvSpPr>
                  <p:spPr>
                    <a:xfrm>
                      <a:off x="69231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6" name="Group 60"/>
              <p:cNvGrpSpPr/>
              <p:nvPr/>
            </p:nvGrpSpPr>
            <p:grpSpPr>
              <a:xfrm>
                <a:off x="5691240" y="1066680"/>
                <a:ext cx="995400" cy="5257800"/>
                <a:chOff x="5691240" y="1066680"/>
                <a:chExt cx="995400" cy="5257800"/>
              </a:xfrm>
            </p:grpSpPr>
            <p:sp>
              <p:nvSpPr>
                <p:cNvPr id="347" name="Rectangle 61"/>
                <p:cNvSpPr/>
                <p:nvPr/>
              </p:nvSpPr>
              <p:spPr>
                <a:xfrm>
                  <a:off x="569124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62"/>
                <p:cNvGrpSpPr/>
                <p:nvPr/>
              </p:nvGrpSpPr>
              <p:grpSpPr>
                <a:xfrm>
                  <a:off x="5732640" y="1066680"/>
                  <a:ext cx="906120" cy="5257800"/>
                  <a:chOff x="5732640" y="1066680"/>
                  <a:chExt cx="906120" cy="5257800"/>
                </a:xfrm>
              </p:grpSpPr>
              <p:grpSp>
                <p:nvGrpSpPr>
                  <p:cNvPr id="349" name="Group 63"/>
                  <p:cNvGrpSpPr/>
                  <p:nvPr/>
                </p:nvGrpSpPr>
                <p:grpSpPr>
                  <a:xfrm>
                    <a:off x="5732640" y="1066680"/>
                    <a:ext cx="645840" cy="5257800"/>
                    <a:chOff x="5732640" y="1066680"/>
                    <a:chExt cx="645840" cy="5257800"/>
                  </a:xfrm>
                </p:grpSpPr>
                <p:sp>
                  <p:nvSpPr>
                    <p:cNvPr id="350" name="Rectangle 64"/>
                    <p:cNvSpPr/>
                    <p:nvPr/>
                  </p:nvSpPr>
                  <p:spPr>
                    <a:xfrm>
                      <a:off x="57326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65"/>
                    <p:cNvSpPr/>
                    <p:nvPr/>
                  </p:nvSpPr>
                  <p:spPr>
                    <a:xfrm>
                      <a:off x="62071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66"/>
                  <p:cNvGrpSpPr/>
                  <p:nvPr/>
                </p:nvGrpSpPr>
                <p:grpSpPr>
                  <a:xfrm>
                    <a:off x="5948280" y="1066680"/>
                    <a:ext cx="601920" cy="5257800"/>
                    <a:chOff x="5948280" y="1066680"/>
                    <a:chExt cx="601920" cy="5257800"/>
                  </a:xfrm>
                </p:grpSpPr>
                <p:sp>
                  <p:nvSpPr>
                    <p:cNvPr id="353" name="Rectangle 67"/>
                    <p:cNvSpPr/>
                    <p:nvPr/>
                  </p:nvSpPr>
                  <p:spPr>
                    <a:xfrm>
                      <a:off x="59482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68"/>
                    <p:cNvSpPr/>
                    <p:nvPr/>
                  </p:nvSpPr>
                  <p:spPr>
                    <a:xfrm>
                      <a:off x="64231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69"/>
                  <p:cNvGrpSpPr/>
                  <p:nvPr/>
                </p:nvGrpSpPr>
                <p:grpSpPr>
                  <a:xfrm>
                    <a:off x="6124680" y="1066680"/>
                    <a:ext cx="514080" cy="5257800"/>
                    <a:chOff x="6124680" y="1066680"/>
                    <a:chExt cx="514080" cy="5257800"/>
                  </a:xfrm>
                </p:grpSpPr>
                <p:sp>
                  <p:nvSpPr>
                    <p:cNvPr id="356" name="Rectangle 70"/>
                    <p:cNvSpPr/>
                    <p:nvPr/>
                  </p:nvSpPr>
                  <p:spPr>
                    <a:xfrm>
                      <a:off x="61246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71"/>
                    <p:cNvSpPr/>
                    <p:nvPr/>
                  </p:nvSpPr>
                  <p:spPr>
                    <a:xfrm>
                      <a:off x="65991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8" name="Group 72"/>
                <p:cNvGrpSpPr/>
                <p:nvPr/>
              </p:nvGrpSpPr>
              <p:grpSpPr>
                <a:xfrm>
                  <a:off x="5729400" y="1274760"/>
                  <a:ext cx="663480" cy="4821120"/>
                  <a:chOff x="5729400" y="1274760"/>
                  <a:chExt cx="663480" cy="4821120"/>
                </a:xfrm>
              </p:grpSpPr>
              <p:grpSp>
                <p:nvGrpSpPr>
                  <p:cNvPr id="359" name="Group 73"/>
                  <p:cNvGrpSpPr/>
                  <p:nvPr/>
                </p:nvGrpSpPr>
                <p:grpSpPr>
                  <a:xfrm>
                    <a:off x="5729400" y="1274760"/>
                    <a:ext cx="663480" cy="1341360"/>
                    <a:chOff x="5729400" y="1274760"/>
                    <a:chExt cx="663480" cy="1341360"/>
                  </a:xfrm>
                </p:grpSpPr>
                <p:sp>
                  <p:nvSpPr>
                    <p:cNvPr id="360" name="Freeform 74"/>
                    <p:cNvSpPr/>
                    <p:nvPr/>
                  </p:nvSpPr>
                  <p:spPr>
                    <a:xfrm>
                      <a:off x="620388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Freeform 75"/>
                    <p:cNvSpPr/>
                    <p:nvPr/>
                  </p:nvSpPr>
                  <p:spPr>
                    <a:xfrm>
                      <a:off x="572940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76"/>
                    <p:cNvSpPr/>
                    <p:nvPr/>
                  </p:nvSpPr>
                  <p:spPr>
                    <a:xfrm>
                      <a:off x="620388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77"/>
                    <p:cNvSpPr/>
                    <p:nvPr/>
                  </p:nvSpPr>
                  <p:spPr>
                    <a:xfrm>
                      <a:off x="572940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78"/>
                  <p:cNvGrpSpPr/>
                  <p:nvPr/>
                </p:nvGrpSpPr>
                <p:grpSpPr>
                  <a:xfrm>
                    <a:off x="5729400" y="3014640"/>
                    <a:ext cx="663480" cy="1344600"/>
                    <a:chOff x="5729400" y="3014640"/>
                    <a:chExt cx="663480" cy="1344600"/>
                  </a:xfrm>
                </p:grpSpPr>
                <p:sp>
                  <p:nvSpPr>
                    <p:cNvPr id="365" name="Freeform 79"/>
                    <p:cNvSpPr/>
                    <p:nvPr/>
                  </p:nvSpPr>
                  <p:spPr>
                    <a:xfrm>
                      <a:off x="620388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80"/>
                    <p:cNvSpPr/>
                    <p:nvPr/>
                  </p:nvSpPr>
                  <p:spPr>
                    <a:xfrm>
                      <a:off x="572940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81"/>
                    <p:cNvSpPr/>
                    <p:nvPr/>
                  </p:nvSpPr>
                  <p:spPr>
                    <a:xfrm>
                      <a:off x="620388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82"/>
                    <p:cNvSpPr/>
                    <p:nvPr/>
                  </p:nvSpPr>
                  <p:spPr>
                    <a:xfrm>
                      <a:off x="572940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83"/>
                  <p:cNvGrpSpPr/>
                  <p:nvPr/>
                </p:nvGrpSpPr>
                <p:grpSpPr>
                  <a:xfrm>
                    <a:off x="5729400" y="4751280"/>
                    <a:ext cx="663480" cy="1344600"/>
                    <a:chOff x="5729400" y="4751280"/>
                    <a:chExt cx="663480" cy="1344600"/>
                  </a:xfrm>
                </p:grpSpPr>
                <p:sp>
                  <p:nvSpPr>
                    <p:cNvPr id="370" name="Freeform 84"/>
                    <p:cNvSpPr/>
                    <p:nvPr/>
                  </p:nvSpPr>
                  <p:spPr>
                    <a:xfrm>
                      <a:off x="620388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85"/>
                    <p:cNvSpPr/>
                    <p:nvPr/>
                  </p:nvSpPr>
                  <p:spPr>
                    <a:xfrm>
                      <a:off x="572940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86"/>
                    <p:cNvSpPr/>
                    <p:nvPr/>
                  </p:nvSpPr>
                  <p:spPr>
                    <a:xfrm>
                      <a:off x="620388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87"/>
                    <p:cNvSpPr/>
                    <p:nvPr/>
                  </p:nvSpPr>
                  <p:spPr>
                    <a:xfrm>
                      <a:off x="572940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4" name="Group 88"/>
              <p:cNvGrpSpPr/>
              <p:nvPr/>
            </p:nvGrpSpPr>
            <p:grpSpPr>
              <a:xfrm>
                <a:off x="4495680" y="1066680"/>
                <a:ext cx="997200" cy="5257800"/>
                <a:chOff x="4495680" y="1066680"/>
                <a:chExt cx="997200" cy="5257800"/>
              </a:xfrm>
            </p:grpSpPr>
            <p:sp>
              <p:nvSpPr>
                <p:cNvPr id="375" name="Rectangle 89"/>
                <p:cNvSpPr/>
                <p:nvPr/>
              </p:nvSpPr>
              <p:spPr>
                <a:xfrm>
                  <a:off x="4495680" y="1066680"/>
                  <a:ext cx="9972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90"/>
                <p:cNvGrpSpPr/>
                <p:nvPr/>
              </p:nvGrpSpPr>
              <p:grpSpPr>
                <a:xfrm>
                  <a:off x="4540320" y="1066680"/>
                  <a:ext cx="903240" cy="5257800"/>
                  <a:chOff x="4540320" y="1066680"/>
                  <a:chExt cx="903240" cy="5257800"/>
                </a:xfrm>
              </p:grpSpPr>
              <p:grpSp>
                <p:nvGrpSpPr>
                  <p:cNvPr id="377" name="Group 91"/>
                  <p:cNvGrpSpPr/>
                  <p:nvPr/>
                </p:nvGrpSpPr>
                <p:grpSpPr>
                  <a:xfrm>
                    <a:off x="4540320" y="1066680"/>
                    <a:ext cx="644400" cy="5257800"/>
                    <a:chOff x="4540320" y="1066680"/>
                    <a:chExt cx="644400" cy="5257800"/>
                  </a:xfrm>
                </p:grpSpPr>
                <p:sp>
                  <p:nvSpPr>
                    <p:cNvPr id="378" name="Rectangle 92"/>
                    <p:cNvSpPr/>
                    <p:nvPr/>
                  </p:nvSpPr>
                  <p:spPr>
                    <a:xfrm>
                      <a:off x="454032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93"/>
                    <p:cNvSpPr/>
                    <p:nvPr/>
                  </p:nvSpPr>
                  <p:spPr>
                    <a:xfrm>
                      <a:off x="50133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Group 94"/>
                  <p:cNvGrpSpPr/>
                  <p:nvPr/>
                </p:nvGrpSpPr>
                <p:grpSpPr>
                  <a:xfrm>
                    <a:off x="4756320" y="1066680"/>
                    <a:ext cx="599760" cy="5257800"/>
                    <a:chOff x="4756320" y="1066680"/>
                    <a:chExt cx="599760" cy="5257800"/>
                  </a:xfrm>
                </p:grpSpPr>
                <p:sp>
                  <p:nvSpPr>
                    <p:cNvPr id="381" name="Rectangle 95"/>
                    <p:cNvSpPr/>
                    <p:nvPr/>
                  </p:nvSpPr>
                  <p:spPr>
                    <a:xfrm>
                      <a:off x="475632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96"/>
                    <p:cNvSpPr/>
                    <p:nvPr/>
                  </p:nvSpPr>
                  <p:spPr>
                    <a:xfrm>
                      <a:off x="522936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97"/>
                  <p:cNvGrpSpPr/>
                  <p:nvPr/>
                </p:nvGrpSpPr>
                <p:grpSpPr>
                  <a:xfrm>
                    <a:off x="4930920" y="1066680"/>
                    <a:ext cx="512640" cy="5257800"/>
                    <a:chOff x="4930920" y="1066680"/>
                    <a:chExt cx="512640" cy="5257800"/>
                  </a:xfrm>
                </p:grpSpPr>
                <p:sp>
                  <p:nvSpPr>
                    <p:cNvPr id="384" name="Rectangle 98"/>
                    <p:cNvSpPr/>
                    <p:nvPr/>
                  </p:nvSpPr>
                  <p:spPr>
                    <a:xfrm>
                      <a:off x="4930920" y="1066680"/>
                      <a:ext cx="378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99"/>
                    <p:cNvSpPr/>
                    <p:nvPr/>
                  </p:nvSpPr>
                  <p:spPr>
                    <a:xfrm>
                      <a:off x="540396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Group 100"/>
                <p:cNvGrpSpPr/>
                <p:nvPr/>
              </p:nvGrpSpPr>
              <p:grpSpPr>
                <a:xfrm>
                  <a:off x="4535640" y="1274760"/>
                  <a:ext cx="664920" cy="4821120"/>
                  <a:chOff x="4535640" y="1274760"/>
                  <a:chExt cx="664920" cy="4821120"/>
                </a:xfrm>
              </p:grpSpPr>
              <p:grpSp>
                <p:nvGrpSpPr>
                  <p:cNvPr id="387" name="Group 101"/>
                  <p:cNvGrpSpPr/>
                  <p:nvPr/>
                </p:nvGrpSpPr>
                <p:grpSpPr>
                  <a:xfrm>
                    <a:off x="4535640" y="1274760"/>
                    <a:ext cx="664920" cy="1341360"/>
                    <a:chOff x="4535640" y="1274760"/>
                    <a:chExt cx="664920" cy="1341360"/>
                  </a:xfrm>
                </p:grpSpPr>
                <p:sp>
                  <p:nvSpPr>
                    <p:cNvPr id="388" name="Freeform 102"/>
                    <p:cNvSpPr/>
                    <p:nvPr/>
                  </p:nvSpPr>
                  <p:spPr>
                    <a:xfrm>
                      <a:off x="5008680" y="1274760"/>
                      <a:ext cx="19188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2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1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03"/>
                    <p:cNvSpPr/>
                    <p:nvPr/>
                  </p:nvSpPr>
                  <p:spPr>
                    <a:xfrm>
                      <a:off x="453564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04"/>
                    <p:cNvSpPr/>
                    <p:nvPr/>
                  </p:nvSpPr>
                  <p:spPr>
                    <a:xfrm>
                      <a:off x="5008680" y="1995480"/>
                      <a:ext cx="19188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1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0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05"/>
                    <p:cNvSpPr/>
                    <p:nvPr/>
                  </p:nvSpPr>
                  <p:spPr>
                    <a:xfrm>
                      <a:off x="453564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106"/>
                  <p:cNvGrpSpPr/>
                  <p:nvPr/>
                </p:nvGrpSpPr>
                <p:grpSpPr>
                  <a:xfrm>
                    <a:off x="4535640" y="3014640"/>
                    <a:ext cx="664920" cy="1344600"/>
                    <a:chOff x="4535640" y="3014640"/>
                    <a:chExt cx="664920" cy="1344600"/>
                  </a:xfrm>
                </p:grpSpPr>
                <p:sp>
                  <p:nvSpPr>
                    <p:cNvPr id="393" name="Freeform 107"/>
                    <p:cNvSpPr/>
                    <p:nvPr/>
                  </p:nvSpPr>
                  <p:spPr>
                    <a:xfrm>
                      <a:off x="5008680" y="3014640"/>
                      <a:ext cx="19188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4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3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08"/>
                    <p:cNvSpPr/>
                    <p:nvPr/>
                  </p:nvSpPr>
                  <p:spPr>
                    <a:xfrm>
                      <a:off x="453564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09"/>
                    <p:cNvSpPr/>
                    <p:nvPr/>
                  </p:nvSpPr>
                  <p:spPr>
                    <a:xfrm>
                      <a:off x="5008680" y="373536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10"/>
                    <p:cNvSpPr/>
                    <p:nvPr/>
                  </p:nvSpPr>
                  <p:spPr>
                    <a:xfrm>
                      <a:off x="453564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111"/>
                  <p:cNvGrpSpPr/>
                  <p:nvPr/>
                </p:nvGrpSpPr>
                <p:grpSpPr>
                  <a:xfrm>
                    <a:off x="4535640" y="4751280"/>
                    <a:ext cx="664920" cy="1344600"/>
                    <a:chOff x="4535640" y="4751280"/>
                    <a:chExt cx="664920" cy="1344600"/>
                  </a:xfrm>
                </p:grpSpPr>
                <p:sp>
                  <p:nvSpPr>
                    <p:cNvPr id="398" name="Freeform 112"/>
                    <p:cNvSpPr/>
                    <p:nvPr/>
                  </p:nvSpPr>
                  <p:spPr>
                    <a:xfrm>
                      <a:off x="5008680" y="475128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13"/>
                    <p:cNvSpPr/>
                    <p:nvPr/>
                  </p:nvSpPr>
                  <p:spPr>
                    <a:xfrm>
                      <a:off x="453564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14"/>
                    <p:cNvSpPr/>
                    <p:nvPr/>
                  </p:nvSpPr>
                  <p:spPr>
                    <a:xfrm>
                      <a:off x="5008680" y="5472000"/>
                      <a:ext cx="19188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15"/>
                    <p:cNvSpPr/>
                    <p:nvPr/>
                  </p:nvSpPr>
                  <p:spPr>
                    <a:xfrm>
                      <a:off x="453564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Group 116"/>
              <p:cNvGrpSpPr/>
              <p:nvPr/>
            </p:nvGrpSpPr>
            <p:grpSpPr>
              <a:xfrm>
                <a:off x="3301920" y="1066680"/>
                <a:ext cx="995400" cy="5257800"/>
                <a:chOff x="3301920" y="1066680"/>
                <a:chExt cx="995400" cy="5257800"/>
              </a:xfrm>
            </p:grpSpPr>
            <p:sp>
              <p:nvSpPr>
                <p:cNvPr id="403" name="Rectangle 117"/>
                <p:cNvSpPr/>
                <p:nvPr/>
              </p:nvSpPr>
              <p:spPr>
                <a:xfrm>
                  <a:off x="3301920" y="1066680"/>
                  <a:ext cx="99540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118"/>
                <p:cNvGrpSpPr/>
                <p:nvPr/>
              </p:nvGrpSpPr>
              <p:grpSpPr>
                <a:xfrm>
                  <a:off x="3346560" y="1066680"/>
                  <a:ext cx="903240" cy="5257800"/>
                  <a:chOff x="3346560" y="1066680"/>
                  <a:chExt cx="903240" cy="5257800"/>
                </a:xfrm>
              </p:grpSpPr>
              <p:grpSp>
                <p:nvGrpSpPr>
                  <p:cNvPr id="405" name="Group 119"/>
                  <p:cNvGrpSpPr/>
                  <p:nvPr/>
                </p:nvGrpSpPr>
                <p:grpSpPr>
                  <a:xfrm>
                    <a:off x="3346560" y="1066680"/>
                    <a:ext cx="645840" cy="5257800"/>
                    <a:chOff x="3346560" y="1066680"/>
                    <a:chExt cx="645840" cy="5257800"/>
                  </a:xfrm>
                </p:grpSpPr>
                <p:sp>
                  <p:nvSpPr>
                    <p:cNvPr id="406" name="Rectangle 120"/>
                    <p:cNvSpPr/>
                    <p:nvPr/>
                  </p:nvSpPr>
                  <p:spPr>
                    <a:xfrm>
                      <a:off x="334656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Rectangle 121"/>
                    <p:cNvSpPr/>
                    <p:nvPr/>
                  </p:nvSpPr>
                  <p:spPr>
                    <a:xfrm>
                      <a:off x="38210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" name="Group 122"/>
                  <p:cNvGrpSpPr/>
                  <p:nvPr/>
                </p:nvGrpSpPr>
                <p:grpSpPr>
                  <a:xfrm>
                    <a:off x="3560760" y="1066680"/>
                    <a:ext cx="601560" cy="5257800"/>
                    <a:chOff x="3560760" y="1066680"/>
                    <a:chExt cx="601560" cy="5257800"/>
                  </a:xfrm>
                </p:grpSpPr>
                <p:sp>
                  <p:nvSpPr>
                    <p:cNvPr id="409" name="Rectangle 123"/>
                    <p:cNvSpPr/>
                    <p:nvPr/>
                  </p:nvSpPr>
                  <p:spPr>
                    <a:xfrm>
                      <a:off x="3560760" y="1066680"/>
                      <a:ext cx="1285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Rectangle 124"/>
                    <p:cNvSpPr/>
                    <p:nvPr/>
                  </p:nvSpPr>
                  <p:spPr>
                    <a:xfrm>
                      <a:off x="4035600" y="1066680"/>
                      <a:ext cx="126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1" name="Group 125"/>
                  <p:cNvGrpSpPr/>
                  <p:nvPr/>
                </p:nvGrpSpPr>
                <p:grpSpPr>
                  <a:xfrm>
                    <a:off x="3736800" y="1066680"/>
                    <a:ext cx="513000" cy="5257800"/>
                    <a:chOff x="3736800" y="1066680"/>
                    <a:chExt cx="513000" cy="5257800"/>
                  </a:xfrm>
                </p:grpSpPr>
                <p:sp>
                  <p:nvSpPr>
                    <p:cNvPr id="412" name="Rectangle 126"/>
                    <p:cNvSpPr/>
                    <p:nvPr/>
                  </p:nvSpPr>
                  <p:spPr>
                    <a:xfrm>
                      <a:off x="373680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Rectangle 127"/>
                    <p:cNvSpPr/>
                    <p:nvPr/>
                  </p:nvSpPr>
                  <p:spPr>
                    <a:xfrm>
                      <a:off x="4211640" y="1066680"/>
                      <a:ext cx="381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" name="Group 128"/>
                <p:cNvGrpSpPr/>
                <p:nvPr/>
              </p:nvGrpSpPr>
              <p:grpSpPr>
                <a:xfrm>
                  <a:off x="3341520" y="1274760"/>
                  <a:ext cx="665280" cy="4821120"/>
                  <a:chOff x="3341520" y="1274760"/>
                  <a:chExt cx="665280" cy="4821120"/>
                </a:xfrm>
              </p:grpSpPr>
              <p:grpSp>
                <p:nvGrpSpPr>
                  <p:cNvPr id="415" name="Group 129"/>
                  <p:cNvGrpSpPr/>
                  <p:nvPr/>
                </p:nvGrpSpPr>
                <p:grpSpPr>
                  <a:xfrm>
                    <a:off x="3341520" y="1274760"/>
                    <a:ext cx="665280" cy="1341360"/>
                    <a:chOff x="3341520" y="1274760"/>
                    <a:chExt cx="665280" cy="1341360"/>
                  </a:xfrm>
                </p:grpSpPr>
                <p:sp>
                  <p:nvSpPr>
                    <p:cNvPr id="416" name="Freeform 130"/>
                    <p:cNvSpPr/>
                    <p:nvPr/>
                  </p:nvSpPr>
                  <p:spPr>
                    <a:xfrm>
                      <a:off x="381636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131"/>
                    <p:cNvSpPr/>
                    <p:nvPr/>
                  </p:nvSpPr>
                  <p:spPr>
                    <a:xfrm>
                      <a:off x="3341520" y="1274760"/>
                      <a:ext cx="1908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Freeform 132"/>
                    <p:cNvSpPr/>
                    <p:nvPr/>
                  </p:nvSpPr>
                  <p:spPr>
                    <a:xfrm>
                      <a:off x="381636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Freeform 133"/>
                    <p:cNvSpPr/>
                    <p:nvPr/>
                  </p:nvSpPr>
                  <p:spPr>
                    <a:xfrm>
                      <a:off x="3341520" y="1995480"/>
                      <a:ext cx="1908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Group 134"/>
                  <p:cNvGrpSpPr/>
                  <p:nvPr/>
                </p:nvGrpSpPr>
                <p:grpSpPr>
                  <a:xfrm>
                    <a:off x="3341520" y="3014640"/>
                    <a:ext cx="665280" cy="1344600"/>
                    <a:chOff x="3341520" y="3014640"/>
                    <a:chExt cx="665280" cy="1344600"/>
                  </a:xfrm>
                </p:grpSpPr>
                <p:sp>
                  <p:nvSpPr>
                    <p:cNvPr id="421" name="Freeform 135"/>
                    <p:cNvSpPr/>
                    <p:nvPr/>
                  </p:nvSpPr>
                  <p:spPr>
                    <a:xfrm>
                      <a:off x="381636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Freeform 136"/>
                    <p:cNvSpPr/>
                    <p:nvPr/>
                  </p:nvSpPr>
                  <p:spPr>
                    <a:xfrm>
                      <a:off x="3341520" y="3014640"/>
                      <a:ext cx="1908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137"/>
                    <p:cNvSpPr/>
                    <p:nvPr/>
                  </p:nvSpPr>
                  <p:spPr>
                    <a:xfrm>
                      <a:off x="381636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138"/>
                    <p:cNvSpPr/>
                    <p:nvPr/>
                  </p:nvSpPr>
                  <p:spPr>
                    <a:xfrm>
                      <a:off x="3341520" y="373536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Group 139"/>
                  <p:cNvGrpSpPr/>
                  <p:nvPr/>
                </p:nvGrpSpPr>
                <p:grpSpPr>
                  <a:xfrm>
                    <a:off x="3341520" y="4751280"/>
                    <a:ext cx="665280" cy="1344600"/>
                    <a:chOff x="3341520" y="4751280"/>
                    <a:chExt cx="665280" cy="1344600"/>
                  </a:xfrm>
                </p:grpSpPr>
                <p:sp>
                  <p:nvSpPr>
                    <p:cNvPr id="426" name="Freeform 140"/>
                    <p:cNvSpPr/>
                    <p:nvPr/>
                  </p:nvSpPr>
                  <p:spPr>
                    <a:xfrm>
                      <a:off x="381636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Freeform 141"/>
                    <p:cNvSpPr/>
                    <p:nvPr/>
                  </p:nvSpPr>
                  <p:spPr>
                    <a:xfrm>
                      <a:off x="3341520" y="475128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142"/>
                    <p:cNvSpPr/>
                    <p:nvPr/>
                  </p:nvSpPr>
                  <p:spPr>
                    <a:xfrm>
                      <a:off x="381636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143"/>
                    <p:cNvSpPr/>
                    <p:nvPr/>
                  </p:nvSpPr>
                  <p:spPr>
                    <a:xfrm>
                      <a:off x="3341520" y="5472000"/>
                      <a:ext cx="1908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0" name="Group 144"/>
              <p:cNvGrpSpPr/>
              <p:nvPr/>
            </p:nvGrpSpPr>
            <p:grpSpPr>
              <a:xfrm>
                <a:off x="2109960" y="1066680"/>
                <a:ext cx="995040" cy="5257800"/>
                <a:chOff x="2109960" y="1066680"/>
                <a:chExt cx="995040" cy="5257800"/>
              </a:xfrm>
            </p:grpSpPr>
            <p:sp>
              <p:nvSpPr>
                <p:cNvPr id="431" name="Rectangle 145"/>
                <p:cNvSpPr/>
                <p:nvPr/>
              </p:nvSpPr>
              <p:spPr>
                <a:xfrm>
                  <a:off x="2109960" y="1066680"/>
                  <a:ext cx="9950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Group 146"/>
                <p:cNvGrpSpPr/>
                <p:nvPr/>
              </p:nvGrpSpPr>
              <p:grpSpPr>
                <a:xfrm>
                  <a:off x="2152800" y="1066680"/>
                  <a:ext cx="904680" cy="5257800"/>
                  <a:chOff x="2152800" y="1066680"/>
                  <a:chExt cx="904680" cy="5257800"/>
                </a:xfrm>
              </p:grpSpPr>
              <p:grpSp>
                <p:nvGrpSpPr>
                  <p:cNvPr id="433" name="Group 147"/>
                  <p:cNvGrpSpPr/>
                  <p:nvPr/>
                </p:nvGrpSpPr>
                <p:grpSpPr>
                  <a:xfrm>
                    <a:off x="2152800" y="1066680"/>
                    <a:ext cx="644400" cy="5257800"/>
                    <a:chOff x="2152800" y="1066680"/>
                    <a:chExt cx="644400" cy="5257800"/>
                  </a:xfrm>
                </p:grpSpPr>
                <p:sp>
                  <p:nvSpPr>
                    <p:cNvPr id="434" name="Rectangle 148"/>
                    <p:cNvSpPr/>
                    <p:nvPr/>
                  </p:nvSpPr>
                  <p:spPr>
                    <a:xfrm>
                      <a:off x="2152800" y="1066680"/>
                      <a:ext cx="1695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Rectangle 149"/>
                    <p:cNvSpPr/>
                    <p:nvPr/>
                  </p:nvSpPr>
                  <p:spPr>
                    <a:xfrm>
                      <a:off x="2625840" y="1066680"/>
                      <a:ext cx="1713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150"/>
                  <p:cNvGrpSpPr/>
                  <p:nvPr/>
                </p:nvGrpSpPr>
                <p:grpSpPr>
                  <a:xfrm>
                    <a:off x="2367000" y="1066680"/>
                    <a:ext cx="601560" cy="5257800"/>
                    <a:chOff x="2367000" y="1066680"/>
                    <a:chExt cx="601560" cy="5257800"/>
                  </a:xfrm>
                </p:grpSpPr>
                <p:sp>
                  <p:nvSpPr>
                    <p:cNvPr id="437" name="Rectangle 151"/>
                    <p:cNvSpPr/>
                    <p:nvPr/>
                  </p:nvSpPr>
                  <p:spPr>
                    <a:xfrm>
                      <a:off x="236700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Rectangle 152"/>
                    <p:cNvSpPr/>
                    <p:nvPr/>
                  </p:nvSpPr>
                  <p:spPr>
                    <a:xfrm>
                      <a:off x="28414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153"/>
                  <p:cNvGrpSpPr/>
                  <p:nvPr/>
                </p:nvGrpSpPr>
                <p:grpSpPr>
                  <a:xfrm>
                    <a:off x="2543040" y="1066680"/>
                    <a:ext cx="514440" cy="5257800"/>
                    <a:chOff x="2543040" y="1066680"/>
                    <a:chExt cx="514440" cy="5257800"/>
                  </a:xfrm>
                </p:grpSpPr>
                <p:sp>
                  <p:nvSpPr>
                    <p:cNvPr id="440" name="Rectangle 154"/>
                    <p:cNvSpPr/>
                    <p:nvPr/>
                  </p:nvSpPr>
                  <p:spPr>
                    <a:xfrm>
                      <a:off x="254304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Rectangle 155"/>
                    <p:cNvSpPr/>
                    <p:nvPr/>
                  </p:nvSpPr>
                  <p:spPr>
                    <a:xfrm>
                      <a:off x="3017880" y="1066680"/>
                      <a:ext cx="3960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2" name="Group 156"/>
                <p:cNvGrpSpPr/>
                <p:nvPr/>
              </p:nvGrpSpPr>
              <p:grpSpPr>
                <a:xfrm>
                  <a:off x="2149560" y="1274760"/>
                  <a:ext cx="662040" cy="4821120"/>
                  <a:chOff x="2149560" y="1274760"/>
                  <a:chExt cx="662040" cy="4821120"/>
                </a:xfrm>
              </p:grpSpPr>
              <p:grpSp>
                <p:nvGrpSpPr>
                  <p:cNvPr id="443" name="Group 157"/>
                  <p:cNvGrpSpPr/>
                  <p:nvPr/>
                </p:nvGrpSpPr>
                <p:grpSpPr>
                  <a:xfrm>
                    <a:off x="2149560" y="1274760"/>
                    <a:ext cx="662040" cy="1341360"/>
                    <a:chOff x="2149560" y="1274760"/>
                    <a:chExt cx="662040" cy="1341360"/>
                  </a:xfrm>
                </p:grpSpPr>
                <p:sp>
                  <p:nvSpPr>
                    <p:cNvPr id="444" name="Freeform 158"/>
                    <p:cNvSpPr/>
                    <p:nvPr/>
                  </p:nvSpPr>
                  <p:spPr>
                    <a:xfrm>
                      <a:off x="262260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159"/>
                    <p:cNvSpPr/>
                    <p:nvPr/>
                  </p:nvSpPr>
                  <p:spPr>
                    <a:xfrm>
                      <a:off x="2149560" y="1274760"/>
                      <a:ext cx="18900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60"/>
                    <p:cNvSpPr/>
                    <p:nvPr/>
                  </p:nvSpPr>
                  <p:spPr>
                    <a:xfrm>
                      <a:off x="262260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Freeform 161"/>
                    <p:cNvSpPr/>
                    <p:nvPr/>
                  </p:nvSpPr>
                  <p:spPr>
                    <a:xfrm>
                      <a:off x="2149560" y="1995480"/>
                      <a:ext cx="1890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8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162"/>
                  <p:cNvGrpSpPr/>
                  <p:nvPr/>
                </p:nvGrpSpPr>
                <p:grpSpPr>
                  <a:xfrm>
                    <a:off x="2149560" y="3014640"/>
                    <a:ext cx="662040" cy="1344600"/>
                    <a:chOff x="2149560" y="3014640"/>
                    <a:chExt cx="662040" cy="1344600"/>
                  </a:xfrm>
                </p:grpSpPr>
                <p:sp>
                  <p:nvSpPr>
                    <p:cNvPr id="449" name="Freeform 163"/>
                    <p:cNvSpPr/>
                    <p:nvPr/>
                  </p:nvSpPr>
                  <p:spPr>
                    <a:xfrm>
                      <a:off x="262260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164"/>
                    <p:cNvSpPr/>
                    <p:nvPr/>
                  </p:nvSpPr>
                  <p:spPr>
                    <a:xfrm>
                      <a:off x="2149560" y="3014640"/>
                      <a:ext cx="18900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Freeform 165"/>
                    <p:cNvSpPr/>
                    <p:nvPr/>
                  </p:nvSpPr>
                  <p:spPr>
                    <a:xfrm>
                      <a:off x="262260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166"/>
                    <p:cNvSpPr/>
                    <p:nvPr/>
                  </p:nvSpPr>
                  <p:spPr>
                    <a:xfrm>
                      <a:off x="2149560" y="373536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167"/>
                  <p:cNvGrpSpPr/>
                  <p:nvPr/>
                </p:nvGrpSpPr>
                <p:grpSpPr>
                  <a:xfrm>
                    <a:off x="2149560" y="4751280"/>
                    <a:ext cx="662040" cy="1344600"/>
                    <a:chOff x="2149560" y="4751280"/>
                    <a:chExt cx="662040" cy="1344600"/>
                  </a:xfrm>
                </p:grpSpPr>
                <p:sp>
                  <p:nvSpPr>
                    <p:cNvPr id="454" name="Freeform 168"/>
                    <p:cNvSpPr/>
                    <p:nvPr/>
                  </p:nvSpPr>
                  <p:spPr>
                    <a:xfrm>
                      <a:off x="262260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69"/>
                    <p:cNvSpPr/>
                    <p:nvPr/>
                  </p:nvSpPr>
                  <p:spPr>
                    <a:xfrm>
                      <a:off x="2149560" y="475128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Freeform 170"/>
                    <p:cNvSpPr/>
                    <p:nvPr/>
                  </p:nvSpPr>
                  <p:spPr>
                    <a:xfrm>
                      <a:off x="262260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171"/>
                    <p:cNvSpPr/>
                    <p:nvPr/>
                  </p:nvSpPr>
                  <p:spPr>
                    <a:xfrm>
                      <a:off x="2149560" y="5472000"/>
                      <a:ext cx="18900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8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8" name="Group 172"/>
              <p:cNvGrpSpPr/>
              <p:nvPr/>
            </p:nvGrpSpPr>
            <p:grpSpPr>
              <a:xfrm>
                <a:off x="914400" y="1066680"/>
                <a:ext cx="996840" cy="5257800"/>
                <a:chOff x="914400" y="1066680"/>
                <a:chExt cx="996840" cy="5257800"/>
              </a:xfrm>
            </p:grpSpPr>
            <p:sp>
              <p:nvSpPr>
                <p:cNvPr id="459" name="Rectangle 173"/>
                <p:cNvSpPr/>
                <p:nvPr/>
              </p:nvSpPr>
              <p:spPr>
                <a:xfrm>
                  <a:off x="914400" y="1066680"/>
                  <a:ext cx="996840" cy="52578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74"/>
                <p:cNvGrpSpPr/>
                <p:nvPr/>
              </p:nvGrpSpPr>
              <p:grpSpPr>
                <a:xfrm>
                  <a:off x="958680" y="1066680"/>
                  <a:ext cx="903600" cy="5257800"/>
                  <a:chOff x="958680" y="1066680"/>
                  <a:chExt cx="903600" cy="5257800"/>
                </a:xfrm>
              </p:grpSpPr>
              <p:grpSp>
                <p:nvGrpSpPr>
                  <p:cNvPr id="461" name="Group 175"/>
                  <p:cNvGrpSpPr/>
                  <p:nvPr/>
                </p:nvGrpSpPr>
                <p:grpSpPr>
                  <a:xfrm>
                    <a:off x="958680" y="1066680"/>
                    <a:ext cx="644760" cy="5257800"/>
                    <a:chOff x="958680" y="1066680"/>
                    <a:chExt cx="644760" cy="5257800"/>
                  </a:xfrm>
                </p:grpSpPr>
                <p:sp>
                  <p:nvSpPr>
                    <p:cNvPr id="462" name="Rectangle 176"/>
                    <p:cNvSpPr/>
                    <p:nvPr/>
                  </p:nvSpPr>
                  <p:spPr>
                    <a:xfrm>
                      <a:off x="958680" y="1066680"/>
                      <a:ext cx="1717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Rectangle 177"/>
                    <p:cNvSpPr/>
                    <p:nvPr/>
                  </p:nvSpPr>
                  <p:spPr>
                    <a:xfrm>
                      <a:off x="1433520" y="1066680"/>
                      <a:ext cx="16992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" name="Group 178"/>
                  <p:cNvGrpSpPr/>
                  <p:nvPr/>
                </p:nvGrpSpPr>
                <p:grpSpPr>
                  <a:xfrm>
                    <a:off x="1174680" y="1066680"/>
                    <a:ext cx="600120" cy="5257800"/>
                    <a:chOff x="1174680" y="1066680"/>
                    <a:chExt cx="600120" cy="5257800"/>
                  </a:xfrm>
                </p:grpSpPr>
                <p:sp>
                  <p:nvSpPr>
                    <p:cNvPr id="465" name="Rectangle 179"/>
                    <p:cNvSpPr/>
                    <p:nvPr/>
                  </p:nvSpPr>
                  <p:spPr>
                    <a:xfrm>
                      <a:off x="117468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Rectangle 180"/>
                    <p:cNvSpPr/>
                    <p:nvPr/>
                  </p:nvSpPr>
                  <p:spPr>
                    <a:xfrm>
                      <a:off x="1647720" y="1066680"/>
                      <a:ext cx="12708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181"/>
                  <p:cNvGrpSpPr/>
                  <p:nvPr/>
                </p:nvGrpSpPr>
                <p:grpSpPr>
                  <a:xfrm>
                    <a:off x="1349280" y="1066680"/>
                    <a:ext cx="513000" cy="5257800"/>
                    <a:chOff x="1349280" y="1066680"/>
                    <a:chExt cx="513000" cy="5257800"/>
                  </a:xfrm>
                </p:grpSpPr>
                <p:sp>
                  <p:nvSpPr>
                    <p:cNvPr id="468" name="Rectangle 182"/>
                    <p:cNvSpPr/>
                    <p:nvPr/>
                  </p:nvSpPr>
                  <p:spPr>
                    <a:xfrm>
                      <a:off x="134928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Rectangle 183"/>
                    <p:cNvSpPr/>
                    <p:nvPr/>
                  </p:nvSpPr>
                  <p:spPr>
                    <a:xfrm>
                      <a:off x="1822320" y="1066680"/>
                      <a:ext cx="39960" cy="5257800"/>
                    </a:xfrm>
                    <a:prstGeom prst="rect">
                      <a:avLst/>
                    </a:pr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Group 184"/>
                <p:cNvGrpSpPr/>
                <p:nvPr/>
              </p:nvGrpSpPr>
              <p:grpSpPr>
                <a:xfrm>
                  <a:off x="954000" y="1274760"/>
                  <a:ext cx="665280" cy="4821120"/>
                  <a:chOff x="954000" y="1274760"/>
                  <a:chExt cx="665280" cy="4821120"/>
                </a:xfrm>
              </p:grpSpPr>
              <p:grpSp>
                <p:nvGrpSpPr>
                  <p:cNvPr id="471" name="Group 185"/>
                  <p:cNvGrpSpPr/>
                  <p:nvPr/>
                </p:nvGrpSpPr>
                <p:grpSpPr>
                  <a:xfrm>
                    <a:off x="954000" y="1274760"/>
                    <a:ext cx="665280" cy="1341360"/>
                    <a:chOff x="954000" y="1274760"/>
                    <a:chExt cx="665280" cy="1341360"/>
                  </a:xfrm>
                </p:grpSpPr>
                <p:sp>
                  <p:nvSpPr>
                    <p:cNvPr id="472" name="Freeform 186"/>
                    <p:cNvSpPr/>
                    <p:nvPr/>
                  </p:nvSpPr>
                  <p:spPr>
                    <a:xfrm>
                      <a:off x="1427040" y="1274760"/>
                      <a:ext cx="1922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2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1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87"/>
                    <p:cNvSpPr/>
                    <p:nvPr/>
                  </p:nvSpPr>
                  <p:spPr>
                    <a:xfrm>
                      <a:off x="954000" y="1274760"/>
                      <a:ext cx="190440" cy="62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2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1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188"/>
                    <p:cNvSpPr/>
                    <p:nvPr/>
                  </p:nvSpPr>
                  <p:spPr>
                    <a:xfrm>
                      <a:off x="1427040" y="1995480"/>
                      <a:ext cx="1922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1">
                          <a:moveTo>
                            <a:pt x="59" y="0"/>
                          </a:moveTo>
                          <a:lnTo>
                            <a:pt x="0" y="197"/>
                          </a:lnTo>
                          <a:lnTo>
                            <a:pt x="59" y="390"/>
                          </a:lnTo>
                          <a:lnTo>
                            <a:pt x="120" y="197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Freeform 189"/>
                    <p:cNvSpPr/>
                    <p:nvPr/>
                  </p:nvSpPr>
                  <p:spPr>
                    <a:xfrm>
                      <a:off x="954000" y="1995480"/>
                      <a:ext cx="19044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1">
                          <a:moveTo>
                            <a:pt x="58" y="0"/>
                          </a:moveTo>
                          <a:lnTo>
                            <a:pt x="0" y="197"/>
                          </a:lnTo>
                          <a:lnTo>
                            <a:pt x="58" y="390"/>
                          </a:lnTo>
                          <a:lnTo>
                            <a:pt x="119" y="197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" name="Group 190"/>
                  <p:cNvGrpSpPr/>
                  <p:nvPr/>
                </p:nvGrpSpPr>
                <p:grpSpPr>
                  <a:xfrm>
                    <a:off x="954000" y="3014640"/>
                    <a:ext cx="665280" cy="1344600"/>
                    <a:chOff x="954000" y="3014640"/>
                    <a:chExt cx="665280" cy="1344600"/>
                  </a:xfrm>
                </p:grpSpPr>
                <p:sp>
                  <p:nvSpPr>
                    <p:cNvPr id="477" name="Freeform 191"/>
                    <p:cNvSpPr/>
                    <p:nvPr/>
                  </p:nvSpPr>
                  <p:spPr>
                    <a:xfrm>
                      <a:off x="1427040" y="3014640"/>
                      <a:ext cx="1922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4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3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Freeform 192"/>
                    <p:cNvSpPr/>
                    <p:nvPr/>
                  </p:nvSpPr>
                  <p:spPr>
                    <a:xfrm>
                      <a:off x="954000" y="3014640"/>
                      <a:ext cx="190440" cy="62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4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3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Freeform 193"/>
                    <p:cNvSpPr/>
                    <p:nvPr/>
                  </p:nvSpPr>
                  <p:spPr>
                    <a:xfrm>
                      <a:off x="1427040" y="373536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Freeform 194"/>
                    <p:cNvSpPr/>
                    <p:nvPr/>
                  </p:nvSpPr>
                  <p:spPr>
                    <a:xfrm>
                      <a:off x="954000" y="373536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" name="Group 195"/>
                  <p:cNvGrpSpPr/>
                  <p:nvPr/>
                </p:nvGrpSpPr>
                <p:grpSpPr>
                  <a:xfrm>
                    <a:off x="954000" y="4751280"/>
                    <a:ext cx="665280" cy="1344600"/>
                    <a:chOff x="954000" y="4751280"/>
                    <a:chExt cx="665280" cy="1344600"/>
                  </a:xfrm>
                </p:grpSpPr>
                <p:sp>
                  <p:nvSpPr>
                    <p:cNvPr id="482" name="Freeform 196"/>
                    <p:cNvSpPr/>
                    <p:nvPr/>
                  </p:nvSpPr>
                  <p:spPr>
                    <a:xfrm>
                      <a:off x="1427040" y="475128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97"/>
                    <p:cNvSpPr/>
                    <p:nvPr/>
                  </p:nvSpPr>
                  <p:spPr>
                    <a:xfrm>
                      <a:off x="954000" y="475128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Freeform 198"/>
                    <p:cNvSpPr/>
                    <p:nvPr/>
                  </p:nvSpPr>
                  <p:spPr>
                    <a:xfrm>
                      <a:off x="1427040" y="5472000"/>
                      <a:ext cx="1922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93">
                          <a:moveTo>
                            <a:pt x="59" y="0"/>
                          </a:moveTo>
                          <a:lnTo>
                            <a:pt x="0" y="198"/>
                          </a:lnTo>
                          <a:lnTo>
                            <a:pt x="59" y="392"/>
                          </a:lnTo>
                          <a:lnTo>
                            <a:pt x="120" y="198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Freeform 199"/>
                    <p:cNvSpPr/>
                    <p:nvPr/>
                  </p:nvSpPr>
                  <p:spPr>
                    <a:xfrm>
                      <a:off x="954000" y="5472000"/>
                      <a:ext cx="190440" cy="6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93">
                          <a:moveTo>
                            <a:pt x="58" y="0"/>
                          </a:moveTo>
                          <a:lnTo>
                            <a:pt x="0" y="198"/>
                          </a:lnTo>
                          <a:lnTo>
                            <a:pt x="58" y="392"/>
                          </a:lnTo>
                          <a:lnTo>
                            <a:pt x="119" y="198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4d4d4d"/>
                    </a:solidFill>
                    <a:ln cap="rnd" w="2556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" name="Group 200"/>
            <p:cNvGrpSpPr/>
            <p:nvPr/>
          </p:nvGrpSpPr>
          <p:grpSpPr>
            <a:xfrm>
              <a:off x="0" y="11160"/>
              <a:ext cx="2895480" cy="3417840"/>
              <a:chOff x="0" y="11160"/>
              <a:chExt cx="2895480" cy="3417840"/>
            </a:xfrm>
          </p:grpSpPr>
          <p:grpSp>
            <p:nvGrpSpPr>
              <p:cNvPr id="487" name="Group 201"/>
              <p:cNvGrpSpPr/>
              <p:nvPr/>
            </p:nvGrpSpPr>
            <p:grpSpPr>
              <a:xfrm>
                <a:off x="0" y="11160"/>
                <a:ext cx="2895480" cy="3417840"/>
                <a:chOff x="0" y="11160"/>
                <a:chExt cx="2895480" cy="3417840"/>
              </a:xfrm>
            </p:grpSpPr>
            <p:sp>
              <p:nvSpPr>
                <p:cNvPr id="488" name="Rectangle 202"/>
                <p:cNvSpPr/>
                <p:nvPr/>
              </p:nvSpPr>
              <p:spPr>
                <a:xfrm>
                  <a:off x="0" y="11160"/>
                  <a:ext cx="2895480" cy="34178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Group 203"/>
                <p:cNvGrpSpPr/>
                <p:nvPr/>
              </p:nvGrpSpPr>
              <p:grpSpPr>
                <a:xfrm>
                  <a:off x="136440" y="11160"/>
                  <a:ext cx="2616120" cy="3417840"/>
                  <a:chOff x="136440" y="11160"/>
                  <a:chExt cx="2616120" cy="3417840"/>
                </a:xfrm>
              </p:grpSpPr>
              <p:grpSp>
                <p:nvGrpSpPr>
                  <p:cNvPr id="490" name="Group 204"/>
                  <p:cNvGrpSpPr/>
                  <p:nvPr/>
                </p:nvGrpSpPr>
                <p:grpSpPr>
                  <a:xfrm>
                    <a:off x="136440" y="11160"/>
                    <a:ext cx="2616120" cy="3417840"/>
                    <a:chOff x="136440" y="11160"/>
                    <a:chExt cx="2616120" cy="3417840"/>
                  </a:xfrm>
                </p:grpSpPr>
                <p:grpSp>
                  <p:nvGrpSpPr>
                    <p:cNvPr id="491" name="Group 205"/>
                    <p:cNvGrpSpPr/>
                    <p:nvPr/>
                  </p:nvGrpSpPr>
                  <p:grpSpPr>
                    <a:xfrm>
                      <a:off x="136440" y="11160"/>
                      <a:ext cx="1914480" cy="3417840"/>
                      <a:chOff x="136440" y="11160"/>
                      <a:chExt cx="1914480" cy="3417840"/>
                    </a:xfrm>
                  </p:grpSpPr>
                  <p:sp>
                    <p:nvSpPr>
                      <p:cNvPr id="492" name="Rectangle 206"/>
                      <p:cNvSpPr/>
                      <p:nvPr/>
                    </p:nvSpPr>
                    <p:spPr>
                      <a:xfrm>
                        <a:off x="136440" y="11160"/>
                        <a:ext cx="53820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Rectangle 207"/>
                      <p:cNvSpPr/>
                      <p:nvPr/>
                    </p:nvSpPr>
                    <p:spPr>
                      <a:xfrm>
                        <a:off x="1519200" y="11160"/>
                        <a:ext cx="531720" cy="3417840"/>
                      </a:xfrm>
                      <a:prstGeom prst="rect">
                        <a:avLst/>
                      </a:prstGeom>
                      <a:solidFill>
                        <a:srgbClr val="ffffd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4" name="Rectangle 208"/>
                    <p:cNvSpPr/>
                    <p:nvPr/>
                  </p:nvSpPr>
                  <p:spPr>
                    <a:xfrm>
                      <a:off x="811080" y="11160"/>
                      <a:ext cx="298440" cy="3417840"/>
                    </a:xfrm>
                    <a:prstGeom prst="rect">
                      <a:avLst/>
                    </a:prstGeom>
                    <a:solidFill>
                      <a:srgbClr val="7cd3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5" name="Group 209"/>
                    <p:cNvGrpSpPr/>
                    <p:nvPr/>
                  </p:nvGrpSpPr>
                  <p:grpSpPr>
                    <a:xfrm>
                      <a:off x="1260360" y="11160"/>
                      <a:ext cx="1492200" cy="3417840"/>
                      <a:chOff x="1260360" y="11160"/>
                      <a:chExt cx="1492200" cy="3417840"/>
                    </a:xfrm>
                  </p:grpSpPr>
                  <p:sp>
                    <p:nvSpPr>
                      <p:cNvPr id="496" name="Rectangle 210"/>
                      <p:cNvSpPr/>
                      <p:nvPr/>
                    </p:nvSpPr>
                    <p:spPr>
                      <a:xfrm>
                        <a:off x="1260360" y="11160"/>
                        <a:ext cx="12240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Rectangle 211"/>
                      <p:cNvSpPr/>
                      <p:nvPr/>
                    </p:nvSpPr>
                    <p:spPr>
                      <a:xfrm>
                        <a:off x="2630520" y="11160"/>
                        <a:ext cx="122040" cy="3417840"/>
                      </a:xfrm>
                      <a:prstGeom prst="rect">
                        <a:avLst/>
                      </a:prstGeom>
                      <a:solidFill>
                        <a:srgbClr val="ad90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98" name="Rectangle 212"/>
                  <p:cNvSpPr/>
                  <p:nvPr/>
                </p:nvSpPr>
                <p:spPr>
                  <a:xfrm>
                    <a:off x="2193840" y="11160"/>
                    <a:ext cx="298440" cy="3417840"/>
                  </a:xfrm>
                  <a:prstGeom prst="rect">
                    <a:avLst/>
                  </a:prstGeom>
                  <a:solidFill>
                    <a:srgbClr val="7cd3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Group 213"/>
              <p:cNvGrpSpPr/>
              <p:nvPr/>
            </p:nvGrpSpPr>
            <p:grpSpPr>
              <a:xfrm>
                <a:off x="123840" y="144360"/>
                <a:ext cx="1974960" cy="3138480"/>
                <a:chOff x="123840" y="144360"/>
                <a:chExt cx="1974960" cy="3138480"/>
              </a:xfrm>
            </p:grpSpPr>
            <p:grpSp>
              <p:nvGrpSpPr>
                <p:cNvPr id="500" name="Group 214"/>
                <p:cNvGrpSpPr/>
                <p:nvPr/>
              </p:nvGrpSpPr>
              <p:grpSpPr>
                <a:xfrm>
                  <a:off x="123840" y="1279440"/>
                  <a:ext cx="1974960" cy="871560"/>
                  <a:chOff x="123840" y="1279440"/>
                  <a:chExt cx="1974960" cy="871560"/>
                </a:xfrm>
              </p:grpSpPr>
              <p:sp>
                <p:nvSpPr>
                  <p:cNvPr id="501" name="Freeform 215"/>
                  <p:cNvSpPr/>
                  <p:nvPr/>
                </p:nvSpPr>
                <p:spPr>
                  <a:xfrm>
                    <a:off x="1506600" y="1279440"/>
                    <a:ext cx="5922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4">
                        <a:moveTo>
                          <a:pt x="179" y="0"/>
                        </a:moveTo>
                        <a:lnTo>
                          <a:pt x="0" y="127"/>
                        </a:lnTo>
                        <a:lnTo>
                          <a:pt x="179" y="253"/>
                        </a:lnTo>
                        <a:lnTo>
                          <a:pt x="372" y="127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16"/>
                  <p:cNvSpPr/>
                  <p:nvPr/>
                </p:nvSpPr>
                <p:spPr>
                  <a:xfrm>
                    <a:off x="123840" y="1279440"/>
                    <a:ext cx="5922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4">
                        <a:moveTo>
                          <a:pt x="179" y="0"/>
                        </a:moveTo>
                        <a:lnTo>
                          <a:pt x="0" y="127"/>
                        </a:lnTo>
                        <a:lnTo>
                          <a:pt x="179" y="253"/>
                        </a:lnTo>
                        <a:lnTo>
                          <a:pt x="372" y="127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217"/>
                  <p:cNvSpPr/>
                  <p:nvPr/>
                </p:nvSpPr>
                <p:spPr>
                  <a:xfrm>
                    <a:off x="1506600" y="174636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218"/>
                  <p:cNvSpPr/>
                  <p:nvPr/>
                </p:nvSpPr>
                <p:spPr>
                  <a:xfrm>
                    <a:off x="123840" y="174636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219"/>
                <p:cNvGrpSpPr/>
                <p:nvPr/>
              </p:nvGrpSpPr>
              <p:grpSpPr>
                <a:xfrm>
                  <a:off x="123840" y="2406600"/>
                  <a:ext cx="1974960" cy="876240"/>
                  <a:chOff x="123840" y="2406600"/>
                  <a:chExt cx="1974960" cy="876240"/>
                </a:xfrm>
              </p:grpSpPr>
              <p:sp>
                <p:nvSpPr>
                  <p:cNvPr id="506" name="Freeform 220"/>
                  <p:cNvSpPr/>
                  <p:nvPr/>
                </p:nvSpPr>
                <p:spPr>
                  <a:xfrm>
                    <a:off x="1506600" y="2406600"/>
                    <a:ext cx="592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6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5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221"/>
                  <p:cNvSpPr/>
                  <p:nvPr/>
                </p:nvSpPr>
                <p:spPr>
                  <a:xfrm>
                    <a:off x="123840" y="2406600"/>
                    <a:ext cx="592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6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5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222"/>
                  <p:cNvSpPr/>
                  <p:nvPr/>
                </p:nvSpPr>
                <p:spPr>
                  <a:xfrm>
                    <a:off x="1506600" y="2874960"/>
                    <a:ext cx="5922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223"/>
                  <p:cNvSpPr/>
                  <p:nvPr/>
                </p:nvSpPr>
                <p:spPr>
                  <a:xfrm>
                    <a:off x="123840" y="2874960"/>
                    <a:ext cx="5922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224"/>
                <p:cNvGrpSpPr/>
                <p:nvPr/>
              </p:nvGrpSpPr>
              <p:grpSpPr>
                <a:xfrm>
                  <a:off x="123840" y="144360"/>
                  <a:ext cx="1974960" cy="874800"/>
                  <a:chOff x="123840" y="144360"/>
                  <a:chExt cx="1974960" cy="874800"/>
                </a:xfrm>
              </p:grpSpPr>
              <p:sp>
                <p:nvSpPr>
                  <p:cNvPr id="511" name="Freeform 225"/>
                  <p:cNvSpPr/>
                  <p:nvPr/>
                </p:nvSpPr>
                <p:spPr>
                  <a:xfrm>
                    <a:off x="1506600" y="61452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226"/>
                  <p:cNvSpPr/>
                  <p:nvPr/>
                </p:nvSpPr>
                <p:spPr>
                  <a:xfrm>
                    <a:off x="123840" y="614520"/>
                    <a:ext cx="59220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5">
                        <a:moveTo>
                          <a:pt x="179" y="0"/>
                        </a:moveTo>
                        <a:lnTo>
                          <a:pt x="0" y="128"/>
                        </a:lnTo>
                        <a:lnTo>
                          <a:pt x="179" y="254"/>
                        </a:lnTo>
                        <a:lnTo>
                          <a:pt x="372" y="128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227"/>
                  <p:cNvSpPr/>
                  <p:nvPr/>
                </p:nvSpPr>
                <p:spPr>
                  <a:xfrm>
                    <a:off x="1506600" y="144360"/>
                    <a:ext cx="59220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228"/>
                  <p:cNvSpPr/>
                  <p:nvPr/>
                </p:nvSpPr>
                <p:spPr>
                  <a:xfrm>
                    <a:off x="123840" y="144360"/>
                    <a:ext cx="59220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257">
                        <a:moveTo>
                          <a:pt x="179" y="0"/>
                        </a:moveTo>
                        <a:lnTo>
                          <a:pt x="0" y="129"/>
                        </a:lnTo>
                        <a:lnTo>
                          <a:pt x="179" y="256"/>
                        </a:lnTo>
                        <a:lnTo>
                          <a:pt x="372" y="129"/>
                        </a:lnTo>
                        <a:lnTo>
                          <a:pt x="179" y="0"/>
                        </a:lnTo>
                      </a:path>
                    </a:pathLst>
                  </a:custGeom>
                  <a:solidFill>
                    <a:srgbClr val="7cd3c6"/>
                  </a:solidFill>
                  <a:ln cap="rnd" w="25560">
                    <a:solidFill>
                      <a:srgbClr val="ff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5" name="Rectangle 229"/>
            <p:cNvSpPr/>
            <p:nvPr/>
          </p:nvSpPr>
          <p:spPr>
            <a:xfrm>
              <a:off x="914400" y="1066680"/>
              <a:ext cx="1981080" cy="2362320"/>
            </a:xfrm>
            <a:prstGeom prst="rect">
              <a:avLst/>
            </a:prstGeom>
            <a:solidFill>
              <a:srgbClr val="5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cd3c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B18B-65B8-400E-B503-B47F06E63681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gweddings.com/indoor_ceremony.jpg&amp;imgrefurl=http://www.vgweddings.com/vgweddings_new_006.htm&amp;usg=__YiaPJwm_q_OkYZkvYzUheBYdo1k=&amp;h=337&amp;w=421&amp;sz=53&amp;hl=EN&amp;start=2&amp;tbnid=yzf3iozS55RW-M:&amp;tbnh=100&amp;tbnw=125&amp;prev=/images?q=ceremony&amp;gbv=2&amp;hl=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plesbeachhotel.com/weddings/images/ceremony_ocean.jpg&amp;imgrefurl=http://www.naplesbeachhotel.com/weddings/weddings_ceremonies.html&amp;usg=__vfPI6uPK5wvwVJi6CjAmbyCcWPs=&amp;h=342&amp;w=375&amp;sz=39&amp;hl=EN&amp;start=12&amp;tbnid=-oDHRPfV3jAVIM:&amp;tbnh=111&amp;tbnw=122&amp;prev=/images?q=ceremony&amp;gbv=2&amp;hl=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canterbury.ac.uk/support/registry/graduation/images/ceremony.jpg&amp;imgrefurl=http://www.canterbury.ac.uk/support/registry/graduation/cathedral/cathedral-ceremonies.asp&amp;usg=__xkaxwftYXDlM-mnaCft5M0St8Ug=&amp;h=448&amp;w=299&amp;sz=58&amp;hl=EN&amp;start=7&amp;tbnid=NqYlxUIzVmQGNM:&amp;tbnh=127&amp;tbnw=85&amp;prev=/images?q=ceremony&amp;gbv=2&amp;hl=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governor.ri.gov/img/content/gallery/2007/large/memorial_ceremony.jpg&amp;imgrefurl=http://www.governor.ri.gov/events/eventsgallery2007.php&amp;usg=__2n2HL1yHEaIVz1Ap3QxG70v90f4=&amp;h=432&amp;w=650&amp;sz=43&amp;hl=EN&amp;start=27&amp;tbnid=TMhb1R57-HjwHM:&amp;tbnh=91&amp;tbnw=137&amp;prev=/images?q=ceremony&amp;gbv=2&amp;ndsp=20&amp;hl=EN&amp;sa=N&amp;start=20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latimes.com/media/photo/2008-08/olympics-opening-ceremony-41510597.jpg&amp;imgrefurl=http://www.latimes.com/la-olympics-photos-2008-pg,0,5859024.photogallery&amp;usg=__79Y3Fd6hs8LHfZcOeL7zcPWnZuw=&amp;h=425&amp;w=586&amp;sz=59&amp;hl=EN&amp;start=129&amp;tbnid=EmQA51t68lC6qM:&amp;tbnh=98&amp;tbnw=135&amp;prev=/images?q=ceremony&amp;gbv=2&amp;ndsp=20&amp;hl=EN&amp;sa=N&amp;start=120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urchillsgifts.com/images/uploaded/Japanese_Tea_Ceremony.jpg&amp;imgrefurl=http://www.churchillsgifts.com/tea101&amp;usg=__3NnfsuB0gPY9gq01Y-5_cYlhtMA=&amp;h=254&amp;w=280&amp;sz=14&amp;hl=EN&amp;start=2&amp;tbnid=YdtCKo0h4YROVM:&amp;tbnh=103&amp;tbnw=114&amp;prev=/images?q=Japanese+tea+ceremony&amp;gbv=2&amp;hl=E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ocalsocietea.com/images/japanese-tea-ceremony01.jpg&amp;imgrefurl=http://www.socalsocietea.com/asian.htm&amp;usg=__kU0byDy-Tuc3Ds1wiQAkT7Ne9d4=&amp;h=341&amp;w=450&amp;sz=20&amp;hl=EN&amp;start=3&amp;tbnid=3nw2EzWgznMSvM:&amp;tbnh=96&amp;tbnw=127&amp;prev=/images?q=Japanese+tea+ceremony&amp;gbv=2&amp;hl=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chinatownconnection.com/images/japteaceremony2.jpg&amp;imgrefurl=http://www.chinatownconnection.com/tea-ceremony-japanese.htm&amp;usg=__qOvwLnmt02-OTBW7LauLlTvrKJM=&amp;h=205&amp;w=283&amp;sz=17&amp;hl=EN&amp;start=11&amp;tbnid=Syj56jASJKandM:&amp;tbnh=83&amp;tbnw=114&amp;prev=/images?q=Japanese+tea+ceremony&amp;gbv=2&amp;hl=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gophila.com/assets/dmt/images/japanese-tea-garden-2_U.jpg&amp;imgrefurl=http://www.gophila.com/C/Things_to_Do_in_Philadelphia/211/Boundless_Philadelphia/523/Outdoor_Events_and_Festivals/531/U/The_Cherry_Blossom_Festival_of_Greater_Philadelphia/1710.html&amp;usg=__abOcwXAeh1S0Ym0kszqQbCv06P4=&amp;h=300&amp;w=260&amp;sz=19&amp;hl=EN&amp;start=23&amp;tbnid=3BwFn1nt19BWvM:&amp;tbnh=116&amp;tbnw=101&amp;prev=/images?q=Japanese+tea+ceremony&amp;gbv=2&amp;ndsp=20&amp;hl=EN&amp;sa=N&amp;start=20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geocities.com/Tokyo/Gulf/4626/211.jpg&amp;imgrefurl=http://www.geocities.com/Tokyo/Gulf/4626/teaceremony.html&amp;usg=__E1ZIOIiatfcyKl_g4oagyOGGVjc=&amp;h=503&amp;w=473&amp;sz=33&amp;hl=EN&amp;start=29&amp;tbnid=YU1mLB1_p468kM:&amp;tbnh=130&amp;tbnw=122&amp;prev=/images?q=Japanese+tea+ceremony&amp;gbv=2&amp;ndsp=20&amp;hl=EN&amp;sa=N&amp;start=20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inatour.com/images/lantern.festival.jpg&amp;imgrefurl=http://www.chinatour.com/countryinfo/festival.htm&amp;usg=__Bhmei8TkKkSwiHXubHiO3tq7fIs=&amp;h=297&amp;w=450&amp;sz=36&amp;hl=EN&amp;start=1&amp;tbnid=z2KSQtipUOTUbM:&amp;tbnh=84&amp;tbnw=127&amp;prev=/images?q=festival&amp;gbv=2&amp;hl=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eb.mit.edu/museum/img/programs/CambridgeScienceFestival_312.jpg&amp;imgrefurl=http://web.mit.edu/museum/programs/festival.html&amp;usg=__Y3xnRUj7eil3EKyGT6bkhoC-3Mc=&amp;h=320&amp;w=312&amp;sz=35&amp;hl=EN&amp;start=10&amp;tbnid=jQD_U3IOsYSw2M:&amp;tbnh=118&amp;tbnw=115&amp;prev=/images?q=festiva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arts.santa-monica.org/festival/SM_festival_2008/Images/website%2520pics/santa%2520monica%2520festival372.jpg&amp;imgrefurl=http://arts.santa-monica.org/festival/SM_festival_2008/MainFestivalPage2.htm&amp;usg=__efQ2ox5sHKzJKDwEj8Ru8xhF0EI=&amp;h=336&amp;w=360&amp;sz=29&amp;hl=EN&amp;start=11&amp;tbnid=9vWQ9tFBjkY4BM:&amp;tbnh=113&amp;tbnw=121&amp;prev=/images?q=festiva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rtoddking.com/images/chinawin2003/03012213.jpg&amp;imgrefurl=http://rtoddking.com/chinawin2003_hb_if.htm&amp;usg=__MCH46AUHWq4jU-XPE7T3J0SPfYQ=&amp;h=384&amp;w=512&amp;sz=70&amp;hl=EN&amp;start=8&amp;tbnid=yKsxti_lwe4WFM:&amp;tbnh=98&amp;tbnw=131&amp;prev=/images?q=festiva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touregypt.net/featurestories/festival1.jpg&amp;imgrefurl=http://www.touregypt.net/featurestories/festival.htm&amp;usg=__bC_1KbdnQPaxZ8aH9X6JJ5O06Do=&amp;h=315&amp;w=425&amp;sz=31&amp;hl=EN&amp;start=6&amp;tbnid=aopTMaSkcqTuuM:&amp;tbnh=93&amp;tbnw=126&amp;prev=/images?q=festiva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www.city.sendai.jp/kikaku/kokusai/english/images/yosakoi.jpg&amp;imgrefurl=http://www.city.sendai.jp/kikaku/kokusai/english/maturi.html&amp;usg=__ALnke-6Vv1jWWgTFk5NWr-6A2OA=&amp;h=388&amp;w=489&amp;sz=228&amp;hl=EN&amp;start=22&amp;tbnid=t1Kijk9iTEcX-M:&amp;tbnh=103&amp;tbnw=130&amp;prev=/images?q=festival&amp;gbv=2&amp;ndsp=20&amp;hl=EN&amp;sa=N&amp;start=20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colorado-video.com/observerapps_files/festival.jpg&amp;imgrefurl=http://www.colorado-video.com/special-event-surveillance.html&amp;usg=__DrBxcuoTJzn04crvaRb0JbZ8vNU=&amp;h=681&amp;w=1024&amp;sz=44&amp;hl=EN&amp;start=38&amp;tbnid=GzQFp4jw4mV1BM:&amp;tbnh=100&amp;tbnw=150&amp;prev=/images?q=festival&amp;gbv=2&amp;ndsp=20&amp;hl=EN&amp;sa=N&amp;start=20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m/imgres?imgurl=http://www.filmfestivalworld.com/fileadmin/media/festival/Maui_Film_Festival/Maui_Film_Festival_1_orig.jpg&amp;imgrefurl=http://www.filmfestivalworld.com/festival/Maui_Film_Festival/&amp;usg=__Hft2v018kJxc6D6YwJh8r8Ow4mA=&amp;h=398&amp;w=780&amp;sz=72&amp;hl=EN&amp;start=37&amp;tbnid=SH7D9rojV5NnOM:&amp;tbnh=72&amp;tbnw=142&amp;prev=/images?q=festival&amp;gbv=2&amp;ndsp=20&amp;hl=EN&amp;sa=N&amp;start=20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ingle%20Dancer.htm" TargetMode="External"/><Relationship Id="rId2" Type="http://schemas.openxmlformats.org/officeDocument/2006/relationships/hyperlink" Target="http://www.scottsboro.org/~flewis/SF%20Reading%20Street/spellmaster/Jingle%20Dancer/jigword2.html" TargetMode="External"/><Relationship Id="rId3" Type="http://schemas.openxmlformats.org/officeDocument/2006/relationships/hyperlink" Target="http://www.scottsboro.org/~flewis/SF%20Reading%20Street/spellmaster/Jingle%20Dancer/matchword2.html" TargetMode="External"/><Relationship Id="rId4" Type="http://schemas.openxmlformats.org/officeDocument/2006/relationships/hyperlink" Target="http://www.scottsboro.org/~flewis/SF%20Reading%20Street/spellmaster/Jingle%20Dancer/speedword2.html" TargetMode="External"/><Relationship Id="rId5" Type="http://schemas.openxmlformats.org/officeDocument/2006/relationships/hyperlink" Target="http://www.scottsboro.org/~flewis/SF%20Reading%20Street/spellmaster/Jingle%20Dancer/wordsearch2.html" TargetMode="External"/><Relationship Id="rId6" Type="http://schemas.openxmlformats.org/officeDocument/2006/relationships/hyperlink" Target="http://www.scottsboro.org/~flewis/SF%20Reading%20Street/spellmaster/Jingle%20Dancer/wordweb.html" TargetMode="External"/><Relationship Id="rId7" Type="http://schemas.openxmlformats.org/officeDocument/2006/relationships/hyperlink" Target="http://www.spellingcity.com/index.php?option=com_spellcity&amp;task=viewList&amp;listId=825788" TargetMode="External"/><Relationship Id="rId8" Type="http://schemas.openxmlformats.org/officeDocument/2006/relationships/hyperlink" Target="http://www.spellingcity.com/index.php?option=com_spellcity&amp;task=viewList&amp;listId=825780" TargetMode="External"/><Relationship Id="rId9" Type="http://schemas.openxmlformats.org/officeDocument/2006/relationships/hyperlink" Target="http://www.scottsboro.org/~flewis/SF%20Reading%20Street/spellmaster/Jingle%20Dancer%20Spelling%20Words/speedword2.html" TargetMode="External"/><Relationship Id="rId10" Type="http://schemas.openxmlformats.org/officeDocument/2006/relationships/hyperlink" Target="http://www.scottsboro.org/~flewis/SF%20Reading%20Street/spellmaster/Jingle%20Dancer%20Spelling%20Words/wordweb.html" TargetMode="External"/><Relationship Id="rId11" Type="http://schemas.openxmlformats.org/officeDocument/2006/relationships/hyperlink" Target="http://www.quia.com/hm/397030.html" TargetMode="External"/><Relationship Id="rId12" Type="http://schemas.openxmlformats.org/officeDocument/2006/relationships/hyperlink" Target="http://www.spellingcity.com/index.php?option=com_spellcity&amp;Itemid=122&amp;task=viewList&amp;listId=354293" TargetMode="External"/><Relationship Id="rId13" Type="http://schemas.openxmlformats.org/officeDocument/2006/relationships/hyperlink" Target="http://www.spellingcity.com/index.php?option=com_spellcity&amp;task=viewList&amp;listId=825793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reesupply.com/modules/articles/images/content/Image/landing_evergreen.jpg&amp;imgrefurl=http://www.bigtreesupply.com/index.php?page=Tree+Descriptions&amp;sub=Evergreen+Trees&amp;usg=__qGnYMc-JS_exG-TD3E7oIUWXBt0=&amp;h=351&amp;w=267&amp;sz=15&amp;hl=EN&amp;start=2&amp;tbnid=X1kBbk2zfVZv0M:&amp;tbnh=120&amp;tbnw=91&amp;prev=/images?q=evergreen&amp;gbv=2&amp;hl=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northrup.org/Photos/snow/low/snowy-evergreen-tree.jpg&amp;imgrefurl=http://www.northrup.org/photos/snow/snowy-evergreen-tree.htm&amp;usg=__nhHQvu5CfX6hMEFUPOPJ1iP49Yk=&amp;h=600&amp;w=400&amp;sz=44&amp;hl=EN&amp;start=3&amp;tbnid=LD1cxrSlIQfkWM:&amp;tbnh=135&amp;tbnw=90&amp;prev=/images?q=evergreen&amp;gbv=2&amp;hl=E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www.prnurseries.com/images/evergreen.jpg&amp;imgrefurl=http://140.254.84.203/wiki/index.php/Evergreen_plants&amp;usg=__V42eEdOUzoHOvLBY9DSOdxguOos=&amp;h=426&amp;w=640&amp;sz=101&amp;hl=EN&amp;start=40&amp;tbnid=XsQNlzHw58-EbM:&amp;tbnh=91&amp;tbnw=137&amp;prev=/images?q=evergreen&amp;gbv=2&amp;ndsp=20&amp;hl=EN&amp;sa=N&amp;start=20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livingwilderness.com/wildlife/bald-eagle-evergreen.jpg&amp;imgrefurl=http://www.livingwilderness.com/wildlife/bald-eagle-evergreen.html&amp;usg=__zHDQmqtoWxkSVG_LfoXnEDKfsKk=&amp;h=333&amp;w=500&amp;sz=44&amp;hl=EN&amp;start=87&amp;tbnid=4tsLFRAmafiREM:&amp;tbnh=87&amp;tbnw=130&amp;prev=/images?q=evergreen&amp;gbv=2&amp;ndsp=20&amp;hl=EN&amp;sa=N&amp;start=80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www.joe-ks.com/archives_mar2005/PineTreeCrosses.jpg&amp;imgrefurl=http://www.joe-ks.com/archives_mar2005/PineTreeCrosses.htm&amp;usg=__FwWlE3uW4Y5iz9nEuIb8QI_GZ7Y=&amp;h=508&amp;w=680&amp;sz=81&amp;hl=EN&amp;start=10&amp;tbnid=D-wJzJDC4QZ25M:&amp;tbnh=104&amp;tbnw=139&amp;prev=/images?q=pine+trees&amp;gbv=2&amp;hl=E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www.ermanz.govt.nz/images/content/pinetrees.jpg&amp;imgrefurl=http://www.ermanz.govt.nz/news-events/archives/media-releases/2000/mr-20000925.html&amp;usg=__9Sbbsa85yugBQApt78jC6_H1zxk=&amp;h=358&amp;w=550&amp;sz=29&amp;hl=EN&amp;start=12&amp;tbnid=cJNsgpvdm_8dMM:&amp;tbnh=87&amp;tbnw=133&amp;prev=/images?q=pine+trees&amp;gbv=2&amp;hl=EN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hyperlink" Target="http://images.google.com/imgres?imgurl=http://www.lakewoodconferences.com/direct/dbimage/50232312/Drum_Set.jpg&amp;imgrefurl=http://www.lakewoodconferences.com/catalog/46/1034/285905/sell_drum_set.html&amp;usg=__l49V-OaHUL7m6xrlQJsB7G5DGwA=&amp;h=360&amp;w=360&amp;sz=31&amp;hl=EN&amp;start=3&amp;tbnid=JqIKEBS4fglHAM:&amp;tbnh=121&amp;tbnw=121&amp;prev=/images?q=drum&amp;gbv=2&amp;hl=EN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images.google.com/imgres?imgurl=http://www.billrotelladrumbeatings.com/drum1.jpg&amp;imgrefurl=http://www.billrotelladrumbeatings.com/vintage.htm&amp;usg=__bcq8WvoOgBvQ4KaVCkJ7IkClPUk=&amp;h=337&amp;w=360&amp;sz=10&amp;hl=EN&amp;start=20&amp;tbnid=FAfA2ApmjTZSjM:&amp;tbnh=113&amp;tbnw=121&amp;prev=/images?q=drum&amp;gbv=2&amp;hl=EN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images.google.com/imgres?imgurl=http://www.musicwithease.com/steel-drum.gif&amp;imgrefurl=http://www.musicwithease.com/drum-pictures.html&amp;usg=__-32xqQ713OPbqA7xTmRf2UksBUs=&amp;h=318&amp;w=366&amp;sz=32&amp;hl=EN&amp;start=22&amp;tbnid=db65IdU3ugGiqM:&amp;tbnh=106&amp;tbnw=122&amp;prev=/images?q=drum&amp;gbv=2&amp;ndsp=20&amp;hl=EN&amp;sa=N&amp;start=20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images.google.com/imgres?imgurl=http://www.troys-drums.com/uploaded_images/drum_muffling-714568.jpg&amp;imgrefurl=http://www.troys-drums.com/&amp;usg=__0QzH1Gz2iE9zVlpGjgSsQJV77tQ=&amp;h=299&amp;w=432&amp;sz=41&amp;hl=EN&amp;start=29&amp;tbnid=fqBY3G140yGZJM:&amp;tbnh=87&amp;tbnw=126&amp;prev=/images?q=drum&amp;gbv=2&amp;ndsp=20&amp;hl=EN&amp;sa=N&amp;start=20" TargetMode="External"/><Relationship Id="rId9" Type="http://schemas.openxmlformats.org/officeDocument/2006/relationships/image" Target="../media/image32.jpeg"/><Relationship Id="rId10" Type="http://schemas.openxmlformats.org/officeDocument/2006/relationships/hyperlink" Target="http://images.google.com/imgres?imgurl=http://www.brooklynx.org/neighborhoods/panafrican/Ewe%2520drum%2520ensemble%2520Sogo%2520Kidi%2520Kagan.gif&amp;imgrefurl=http://www.brooklynx.org/neighborhoods/panafrican/african_instrumentstext.htm&amp;usg=__iv-aGmsIxu2e5EPwaOwqeGxi4H4=&amp;h=316&amp;w=424&amp;sz=93&amp;hl=EN&amp;start=58&amp;tbnid=A258n7a50KsY4M:&amp;tbnh=94&amp;tbnw=126&amp;prev=/images?q=drum&amp;gbv=2&amp;ndsp=20&amp;hl=EN&amp;sa=N&amp;start=40" TargetMode="External"/><Relationship Id="rId11" Type="http://schemas.openxmlformats.org/officeDocument/2006/relationships/image" Target="../media/image33.jpeg"/><Relationship Id="rId12" Type="http://schemas.openxmlformats.org/officeDocument/2006/relationships/hyperlink" Target="http://images.google.com/imgres?imgurl=http://www.briannaess.com/images/fishing_images/puppy_drum.jpg&amp;imgrefurl=http://www.briannaess.com/fishing.cfm?row=21&amp;usg=__ZzSEXAgtet-VHv0iKdCgJud8Zt0=&amp;h=2112&amp;w=2816&amp;sz=1610&amp;hl=EN&amp;start=62&amp;tbnid=DcCJ7weSQNLCbM:&amp;tbnh=113&amp;tbnw=150&amp;prev=/images?q=drum&amp;gbv=2&amp;ndsp=20&amp;hl=EN&amp;sa=N&amp;start=60" TargetMode="External"/><Relationship Id="rId13" Type="http://schemas.openxmlformats.org/officeDocument/2006/relationships/image" Target="../media/image34.jpeg"/><Relationship Id="rId14" Type="http://schemas.openxmlformats.org/officeDocument/2006/relationships/hyperlink" Target="http://images.google.com/imgres?imgurl=http://www.nationalbingoonline.com/images/SmallRaffleDrum.JPG&amp;imgrefurl=http://www.nationalbingoonline.com/store/c/9-Raffle-Drums.aspx&amp;usg=__wnXpXpbJsKqYL4AAXOWkzV8p_Rk=&amp;h=313&amp;w=400&amp;sz=22&amp;hl=EN&amp;start=78&amp;tbnid=yyzvk9K2Oj7NNM:&amp;tbnh=97&amp;tbnw=124&amp;prev=/images?q=drum&amp;gbv=2&amp;ndsp=20&amp;hl=EN&amp;sa=N&amp;start=60" TargetMode="External"/><Relationship Id="rId15" Type="http://schemas.openxmlformats.org/officeDocument/2006/relationships/image" Target="../media/image35.jpeg"/><Relationship Id="rId16" Type="http://schemas.openxmlformats.org/officeDocument/2006/relationships/hyperlink" Target="http://images.google.com/imgres?imgurl=http://www.explainthatstuff.com/drum.jpg&amp;imgrefurl=http://www.explainthatstuff.com/washingmachine.html&amp;usg=__ONoAgHh3DGpAWJypHlDgN_tb7_M=&amp;h=318&amp;w=382&amp;sz=29&amp;hl=EN&amp;start=82&amp;tbnid=QYGA334zoD4eUM:&amp;tbnh=102&amp;tbnw=123&amp;prev=/images?q=drum&amp;gbv=2&amp;ndsp=20&amp;hl=EN&amp;sa=N&amp;start=80" TargetMode="External"/><Relationship Id="rId17" Type="http://schemas.openxmlformats.org/officeDocument/2006/relationships/image" Target="../media/image36.jpeg"/><Relationship Id="rId18" Type="http://schemas.openxmlformats.org/officeDocument/2006/relationships/hyperlink" Target="http://images.google.com/imgres?imgurl=http://www.sentrysafetysupply.com/images/sentry-prod-images/JR-ReplDrums.jpg&amp;imgrefurl=http://www.sentrysafetysupply.com/display_category_1190/accessories-for-waste-receptacle.html&amp;usg=__hEuLTZZITN8xlzQPBo2xGVEckFY=&amp;h=400&amp;w=400&amp;sz=10&amp;hl=EN&amp;start=151&amp;tbnid=rXgICUx6PgTWDM:&amp;tbnh=124&amp;tbnw=124&amp;prev=/images?q=drum&amp;gbv=2&amp;ndsp=20&amp;hl=EN&amp;sa=N&amp;start=140" TargetMode="External"/><Relationship Id="rId19" Type="http://schemas.openxmlformats.org/officeDocument/2006/relationships/image" Target="../media/image37.jpeg"/><Relationship Id="rId20" Type="http://schemas.openxmlformats.org/officeDocument/2006/relationships/hyperlink" Target="http://images.google.com/imgres?imgurl=http://www.preparedpantry.com/images/products/detail/LargeDrumGrater.jpg&amp;imgrefurl=http://www.preparedpantry.com/Large-Capacity-Three-Drum-Grater-2.aspx&amp;usg=__IYVwVUhGM2Qd_uZbOBgQhQQoecI=&amp;h=452&amp;w=800&amp;sz=30&amp;hl=EN&amp;start=160&amp;tbnid=5u79OZbamusW5M:&amp;tbnh=81&amp;tbnw=143&amp;prev=/images?q=drum&amp;gbv=2&amp;ndsp=20&amp;hl=EN&amp;sa=N&amp;start=140" TargetMode="External"/><Relationship Id="rId21" Type="http://schemas.openxmlformats.org/officeDocument/2006/relationships/image" Target="../media/image38.jpeg"/><Relationship Id="rId22" Type="http://schemas.openxmlformats.org/officeDocument/2006/relationships/hyperlink" Target="http://images.google.com/imgres?imgurl=http://images.landofnod.com/is/image/LandOfNod/3707121_DBL%2520BONGO%2520DRUM_0908?$zm$&amp;imgrefurl=http://www.squidoo.com/KidsMusicLand&amp;usg=__4YtSNAs39QFTGwToXjjO7V8FPls=&amp;h=435&amp;w=435&amp;sz=25&amp;hl=EN&amp;start=171&amp;tbnid=O3e8eWI0QhKmKM:&amp;tbnh=126&amp;tbnw=126&amp;prev=/images?q=drum&amp;gbv=2&amp;ndsp=20&amp;hl=EN&amp;sa=N&amp;start=160" TargetMode="External"/><Relationship Id="rId23" Type="http://schemas.openxmlformats.org/officeDocument/2006/relationships/image" Target="../media/image39.jpeg"/><Relationship Id="rId24" Type="http://schemas.openxmlformats.org/officeDocument/2006/relationships/hyperlink" Target="http://images.google.com/imgres?imgurl=http://images.r1concepts.com/images/drums.jpg&amp;imgrefurl=http://members.ebay.com/ws/eBayISAPI.dll?ViewUserPage&amp;userid=r1concepts&amp;usg=__3zB1acdml7ugbAMRHJnVCw30A3E=&amp;h=504&amp;w=648&amp;sz=77&amp;hl=EN&amp;start=8&amp;tbnid=kz6bvj5sV45gYM:&amp;tbnh=107&amp;tbnw=137&amp;prev=/images?q=brake+drums&amp;gbv=2&amp;hl=EN" TargetMode="External"/><Relationship Id="rId25" Type="http://schemas.openxmlformats.org/officeDocument/2006/relationships/image" Target="../media/image40.jpeg"/><Relationship Id="rId26" Type="http://schemas.openxmlformats.org/officeDocument/2006/relationships/hyperlink" Target="http://images.google.com/imgres?imgurl=http://www.synthtopia.com/images/alesis_DM-5_digital_drums.jpg&amp;imgrefurl=http://www.synthtopia.com/content/2007/07/28/alesis-ships-dm5-pro-kit-electronic-drum-set/&amp;usg=__j6f8IPG2-K1Od702uDRZxKhXE_I=&amp;h=364&amp;w=350&amp;sz=22&amp;hl=EN&amp;start=14&amp;tbnid=7iytuoSveZi_oM:&amp;tbnh=121&amp;tbnw=116&amp;prev=/images?q=drums&amp;gbv=2&amp;hl=EN" TargetMode="External"/><Relationship Id="rId27" Type="http://schemas.openxmlformats.org/officeDocument/2006/relationships/image" Target="../media/image41.jpeg"/><Relationship Id="rId2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hyperlink" Target="http://images.google.com/imgres?imgurl=http://www.lakewoodconferences.com/direct/dbimage/50285291/Silver_Ring.jpg&amp;imgrefurl=http://www.lakewoodconferences.com/catalog/81/31/278/fine_jewelry.html&amp;usg=__2o1Bd843BJfbJxXWSJI0Gm-PZsQ=&amp;h=360&amp;w=360&amp;sz=22&amp;hl=EN&amp;start=4&amp;tbnid=76jPdEbwiBDvPM:&amp;tbnh=121&amp;tbnw=121&amp;prev=/images?q=silver&amp;gbv=2&amp;hl=EN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images.google.com/imgres?imgurl=http://www.monex.com/images/photos/prodSilver01.jpg&amp;imgrefurl=http://www.monex.com/prods/silver.html&amp;usg=__yEa1VAWAcL3Uc2CQJVyQzz9OEl4=&amp;h=335&amp;w=377&amp;sz=69&amp;hl=EN&amp;start=5&amp;tbnid=eJdT550clzcgWM:&amp;tbnh=108&amp;tbnw=122&amp;prev=/images?q=silver&amp;gbv=2&amp;hl=EN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google.com/imgres?imgurl=http://www.goldline.com/images/products/silver-american19-obverse-lrg.jpg&amp;imgrefurl=http://www.american-silver-eagles.com/&amp;usg=__SaT6zow2pJGGqgNOHUJGLCQ6HvE=&amp;h=627&amp;w=640&amp;sz=311&amp;hl=EN&amp;start=9&amp;tbnid=0P7v9hBNfJJS1M:&amp;tbnh=134&amp;tbnw=137&amp;prev=/images?q=silver&amp;gbv=2&amp;hl=EN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images.google.com/imgres?imgurl=http://www.parks.ca.gov/pages/22491/images/figure_3_vallejo_silver.jpg&amp;imgrefurl=http://www.parks.ca.gov/?page_id=24474&amp;usg=__c3W1usqapoDeNNLTScDUP7HlgAU=&amp;h=376&amp;w=473&amp;sz=57&amp;hl=EN&amp;start=13&amp;tbnid=8GDEPLZ8ykBJYM:&amp;tbnh=103&amp;tbnw=129&amp;prev=/images?q=silver&amp;gbv=2&amp;hl=EN" TargetMode="External"/><Relationship Id="rId9" Type="http://schemas.openxmlformats.org/officeDocument/2006/relationships/image" Target="../media/image45.jpeg"/><Relationship Id="rId10" Type="http://schemas.openxmlformats.org/officeDocument/2006/relationships/hyperlink" Target="http://images.google.com/imgres?imgurl=http://www.judaica-mall.com/products/silver-kiddush-cup-11013m.jpg&amp;imgrefurl=http://www.judaica-mall.com/silver-kiddush-cup-11013.htm&amp;usg=__zlpBgXtsjqvCL8VFBf8MMQ0_zks=&amp;h=300&amp;w=300&amp;sz=11&amp;hl=EN&amp;start=19&amp;tbnid=SdDW2BSJAaaLJM:&amp;tbnh=116&amp;tbnw=116&amp;prev=/images?q=silver&amp;gbv=2&amp;hl=EN" TargetMode="External"/><Relationship Id="rId11" Type="http://schemas.openxmlformats.org/officeDocument/2006/relationships/image" Target="../media/image46.jpeg"/><Relationship Id="rId12" Type="http://schemas.openxmlformats.org/officeDocument/2006/relationships/hyperlink" Target="http://images.google.com/imgres?imgurl=http://www.global-b2b-network.com/direct/dbimage/50285962/Silver_Chain.jpg&amp;imgrefurl=http://www.global-b2b-network.com/b2b/81/31/271/silver_and_sterling_silver_jewelry.html&amp;usg=__bI23OFdL---t1pcwaxrUF8s9Vqc=&amp;h=360&amp;w=360&amp;sz=34&amp;hl=EN&amp;start=25&amp;tbnid=M_YqdKZae-fFPM:&amp;tbnh=121&amp;tbnw=121&amp;prev=/images?q=silver&amp;gbv=2&amp;ndsp=20&amp;hl=EN&amp;sa=N&amp;start=20" TargetMode="External"/><Relationship Id="rId13" Type="http://schemas.openxmlformats.org/officeDocument/2006/relationships/image" Target="../media/image47.jpeg"/><Relationship Id="rId14" Type="http://schemas.openxmlformats.org/officeDocument/2006/relationships/hyperlink" Target="http://images.google.com/imgres?imgurl=http://www.amergold.com/vault/images/CanadianSilver$.jpg&amp;imgrefurl=http://www.amergold.com/library/viewarticle.shtml?../GMA/42008/1208359697.html&amp;usg=___eELl1EgVj0BVXX7ZcDZkmdYdpE=&amp;h=789&amp;w=1600&amp;sz=187&amp;hl=EN&amp;start=31&amp;tbnid=Khzs9zh3HcniVM:&amp;tbnh=74&amp;tbnw=150&amp;prev=/images?q=silver&amp;gbv=2&amp;ndsp=20&amp;hl=EN&amp;sa=N&amp;start=20" TargetMode="External"/><Relationship Id="rId15" Type="http://schemas.openxmlformats.org/officeDocument/2006/relationships/image" Target="../media/image48.jpeg"/><Relationship Id="rId16" Type="http://schemas.openxmlformats.org/officeDocument/2006/relationships/hyperlink" Target="http://images.google.com/imgres?imgurl=http://www.rttg.org/b2b/pics/Silver_Plate_And_Bowls.jpg&amp;imgrefurl=http://www.rttg.org/b2b/paper_crafts/1/&amp;usg=__vH13cRhYXNtTbCyHClXm5QN0zo0=&amp;h=422&amp;w=606&amp;sz=60&amp;hl=EN&amp;start=35&amp;tbnid=1ij0MknYU5Q5VM:&amp;tbnh=95&amp;tbnw=136&amp;prev=/images?q=silver&amp;gbv=2&amp;ndsp=20&amp;hl=EN&amp;sa=N&amp;start=20" TargetMode="External"/><Relationship Id="rId17" Type="http://schemas.openxmlformats.org/officeDocument/2006/relationships/image" Target="../media/image49.jpeg"/><Relationship Id="rId18" Type="http://schemas.openxmlformats.org/officeDocument/2006/relationships/hyperlink" Target="http://images.google.com/imgres?imgurl=http://www.upstairsatpierrelafond.com/blog-images/5silver.jpg&amp;imgrefurl=http://www.upstairsatpierrelafond.com/upstairsblog/category/atticus-silver/&amp;usg=__4M6kiGWH62HvSKR7-hpps_zSc8s=&amp;h=375&amp;w=500&amp;sz=32&amp;hl=EN&amp;start=43&amp;tbnid=1kcVfVB317VF-M:&amp;tbnh=98&amp;tbnw=130&amp;prev=/images?q=silver&amp;gbv=2&amp;ndsp=20&amp;hl=EN&amp;sa=N&amp;start=40" TargetMode="External"/><Relationship Id="rId19" Type="http://schemas.openxmlformats.org/officeDocument/2006/relationships/image" Target="../media/image50.jpeg"/><Relationship Id="rId20" Type="http://schemas.openxmlformats.org/officeDocument/2006/relationships/hyperlink" Target="http://images.google.com/imgres?imgurl=http://www.thedailygreen.com/cm/thedailygreen/images/RI/cleaning-silver-hm-lg.jpg&amp;imgrefurl=http://www.thedailygreen.com/green-homes/latest/green-cleaning-spring-cleaning-460303&amp;usg=__ZMviW1oLzCBinuWifNbPIQ4Z5E0=&amp;h=460&amp;w=360&amp;sz=42&amp;hl=EN&amp;start=61&amp;tbnid=hpM14I9CmyymHM:&amp;tbnh=128&amp;tbnw=100&amp;prev=/images?q=silver&amp;gbv=2&amp;ndsp=20&amp;hl=EN&amp;sa=N&amp;start=60" TargetMode="External"/><Relationship Id="rId21" Type="http://schemas.openxmlformats.org/officeDocument/2006/relationships/image" Target="../media/image51.jpeg"/><Relationship Id="rId2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chichesterinc.com/images/BuffaloMoccasinsView3Lg.jpg&amp;imgrefurl=http://www.chichesterinc.com/BlackMoosehideMoccasins.htm&amp;usg=__EKuLXaCBZOknnKKc4ybWKm9DgH0=&amp;h=749&amp;w=1002&amp;sz=202&amp;hl=EN&amp;start=1&amp;tbnid=bbJ1rjdjPWETHM:&amp;tbnh=111&amp;tbnw=149&amp;prev=/images?q=moccasins&amp;gbv=2&amp;hl=E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images.google.com/imgres?imgurl=http://www.inmysistersshoes.com/images/deerhide-moccasins-002.jpg&amp;imgrefurl=http://www.inmysistersshoes.com/images/&amp;usg=__QMPo0e2qGHa3e8-4XILe9IJw6u4=&amp;h=480&amp;w=640&amp;sz=80&amp;hl=EN&amp;start=2&amp;tbnid=e0TqIoE3NKsl-M:&amp;tbnh=103&amp;tbnw=137&amp;prev=/images?q=moccasins&amp;gbv=2&amp;hl=EN" TargetMode="External"/><Relationship Id="rId5" Type="http://schemas.openxmlformats.org/officeDocument/2006/relationships/image" Target="../media/image53.jpeg"/><Relationship Id="rId6" Type="http://schemas.openxmlformats.org/officeDocument/2006/relationships/hyperlink" Target="http://images.google.com/imgres?imgurl=http://www.dicklanephotography.com/Pages/artifacts/images/moccasins_5.jpg&amp;imgrefurl=http://www.dicklanephotography.com/Pages/artifacts/pages/moccasins.html&amp;usg=__WY5RKrA8lBjImFIQMNwD_VF041c=&amp;h=383&amp;w=576&amp;sz=116&amp;hl=EN&amp;start=6&amp;tbnid=Mq2rDqZeoVqfpM:&amp;tbnh=89&amp;tbnw=134&amp;prev=/images?q=moccasins&amp;gbv=2&amp;hl=EN" TargetMode="External"/><Relationship Id="rId7" Type="http://schemas.openxmlformats.org/officeDocument/2006/relationships/image" Target="../media/image54.jpeg"/><Relationship Id="rId8" Type="http://schemas.openxmlformats.org/officeDocument/2006/relationships/hyperlink" Target="http://images.google.com/imgres?imgurl=http://www.inmysistersshoes.com/images/Moccasins.gif&amp;imgrefurl=http://www.inmysistersshoes.com/images/&amp;usg=__yxOzRUQRz6j-GU314SFum-ypU9c=&amp;h=647&amp;w=500&amp;sz=230&amp;hl=EN&amp;start=16&amp;tbnid=ORwl79RgCPnBaM:&amp;tbnh=137&amp;tbnw=106&amp;prev=/images?q=moccasins&amp;gbv=2&amp;hl=EN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images.google.com/imgres?imgurl=http://www.designyourownmoccasins.com/destiny&apos;s%2520moccasins.JPG&amp;imgrefurl=http://www.designyourownmoccasins.com/photo%2520gallery%25202.html&amp;usg=__d46wS-hiLkUAHWrP31KkUPpIfgE=&amp;h=285&amp;w=270&amp;sz=23&amp;hl=EN&amp;start=17&amp;tbnid=pjZcrkOyAa-5hM:&amp;tbnh=115&amp;tbnw=109&amp;prev=/images?q=moccasins&amp;gbv=2&amp;hl=EN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images.google.com/imgres?imgurl=http://z.about.com/d/shoes/1/0/K/4/090105_minnetonka_moccasins_shoes.jpg&amp;imgrefurl=http://shoes.about.com/library/bl_090105_minnetonka_moccasins_shoes.htm&amp;usg=__6DyPHReBTNm00kSvu_-TTafksjw=&amp;h=240&amp;w=240&amp;sz=9&amp;hl=EN&amp;start=25&amp;tbnid=jYCGKIseCmuL3M:&amp;tbnh=110&amp;tbnw=110&amp;prev=/images?q=moccasins&amp;gbv=2&amp;ndsp=20&amp;hl=EN&amp;sa=N&amp;start=20" TargetMode="External"/><Relationship Id="rId13" Type="http://schemas.openxmlformats.org/officeDocument/2006/relationships/image" Target="../media/image57.jpeg"/><Relationship Id="rId14" Type="http://schemas.openxmlformats.org/officeDocument/2006/relationships/hyperlink" Target="http://images.google.com/imgres?imgurl=http://sahkahtay.org/Documents/GreenMoccasins.jpg&amp;imgrefurl=http://sahkahtay.org/Documents/DreamCatchersandMoccasins.htm&amp;usg=__i8sASniHq5v_6LxCXHEMq-jfZgA=&amp;h=272&amp;w=300&amp;sz=52&amp;hl=EN&amp;start=36&amp;tbnid=Rq7onOciF8tf2M:&amp;tbnh=105&amp;tbnw=116&amp;prev=/images?q=moccasins&amp;gbv=2&amp;ndsp=20&amp;hl=EN&amp;sa=N&amp;start=20" TargetMode="External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hyperlink" Target="http://images.google.com/imgres?imgurl=http://www.firstpeople.us/pictures/art/1024x768_Pictures/Navajo_Regalia_New_Mexico-1024x768-bandwidth-thief.jpg&amp;imgrefurl=http://www.firstpeople.us/pictures/art/1024x768_Pictures/Navajo-Regalia-New-Mexico-1024x768.html&amp;usg=__Hq0lXQuJY3WpmhQDCSSiyimL_5w=&amp;h=768&amp;w=1024&amp;sz=72&amp;hl=EN&amp;start=4&amp;tbnid=NuEa3yHs0nneqM:&amp;tbnh=113&amp;tbnw=150&amp;prev=/images?q=regalia&amp;gbv=2&amp;hl=EN" TargetMode="External"/><Relationship Id="rId3" Type="http://schemas.openxmlformats.org/officeDocument/2006/relationships/image" Target="../media/image59.jpeg"/><Relationship Id="rId4" Type="http://schemas.openxmlformats.org/officeDocument/2006/relationships/hyperlink" Target="http://images.google.com/imgres?imgurl=http://www.archives.gov/exhibits/charters/treasure/images/truman_portrait_masonic_regalia.jpg&amp;imgrefurl=http://www.archives.gov/exhibits/charters/treasure/treasure_hunt_02.html&amp;usg=__WOBQ9OOiyhV5XoaxnwT4GuSzIaY=&amp;h=403&amp;w=300&amp;sz=23&amp;hl=EN&amp;start=8&amp;tbnid=M5wITCKXu1CjFM:&amp;tbnh=124&amp;tbnw=92&amp;prev=/images?q=regalia&amp;gbv=2&amp;hl=EN" TargetMode="External"/><Relationship Id="rId5" Type="http://schemas.openxmlformats.org/officeDocument/2006/relationships/image" Target="../media/image60.jpeg"/><Relationship Id="rId6" Type="http://schemas.openxmlformats.org/officeDocument/2006/relationships/hyperlink" Target="http://images.google.com/imgres?imgurl=http://upload.wikimedia.org/wikipedia/commons/d/d7/Russian_regalia.jpg&amp;imgrefurl=http://commons.wikimedia.org/wiki/File:Russian_regalia.jpg&amp;usg=__OdOt71-8mppHaBVAETJCP5i9KaQ=&amp;h=855&amp;w=1000&amp;sz=158&amp;hl=EN&amp;start=10&amp;tbnid=XpETbK3HnTV8DM:&amp;tbnh=127&amp;tbnw=149&amp;prev=/images?q=regalia&amp;gbv=2&amp;hl=EN" TargetMode="External"/><Relationship Id="rId7" Type="http://schemas.openxmlformats.org/officeDocument/2006/relationships/image" Target="../media/image61.jpeg"/><Relationship Id="rId8" Type="http://schemas.openxmlformats.org/officeDocument/2006/relationships/hyperlink" Target="http://images.google.com/imgres?imgurl=http://incrediblethreads.com/regalia_017.jpg&amp;imgrefurl=http://incrediblethreads.com/regalia.html&amp;usg=__g7V6QaswgGrUc737dae90ZQE6GM=&amp;h=600&amp;w=800&amp;sz=54&amp;hl=EN&amp;start=18&amp;tbnid=up_FzKDj9HgqyM:&amp;tbnh=107&amp;tbnw=143&amp;prev=/images?q=regalia&amp;gbv=2&amp;hl=EN" TargetMode="External"/><Relationship Id="rId9" Type="http://schemas.openxmlformats.org/officeDocument/2006/relationships/image" Target="../media/image62.jpeg"/><Relationship Id="rId10" Type="http://schemas.openxmlformats.org/officeDocument/2006/relationships/hyperlink" Target="http://images.google.com/imgres?imgurl=http://www.clevelandseniors.com/images/powwow/2007/3-indians-regalia.jpg&amp;imgrefurl=http://www.clevelandseniors.com/family/powwow-2007.htm&amp;usg=__MwcPM_LGxM3qhqx9UlBwk-rXO9I=&amp;h=376&amp;w=400&amp;sz=28&amp;hl=EN&amp;start=29&amp;tbnid=BekpqRpcNLwDoM:&amp;tbnh=117&amp;tbnw=124&amp;prev=/images?q=regalia&amp;gbv=2&amp;ndsp=20&amp;hl=EN&amp;sa=N&amp;start=20" TargetMode="External"/><Relationship Id="rId11" Type="http://schemas.openxmlformats.org/officeDocument/2006/relationships/image" Target="../media/image63.jpeg"/><Relationship Id="rId12" Type="http://schemas.openxmlformats.org/officeDocument/2006/relationships/hyperlink" Target="http://images.google.com/imgres?imgurl=http://www.kumeyaay.info/pow_wow/powwow_pictures/NativeAmerican_Regalia.jpg&amp;imgrefurl=http://www.kumeyaay.info/pow_wow/nativeamerican_regalia.html&amp;usg=__fY9MiGDbgjTnzzYrAQtcPCuXvrQ=&amp;h=1103&amp;w=700&amp;sz=300&amp;hl=EN&amp;start=30&amp;tbnid=UfmM1xY6zWUHcM:&amp;tbnh=150&amp;tbnw=95&amp;prev=/images?q=regalia&amp;gbv=2&amp;ndsp=20&amp;hl=EN&amp;sa=N&amp;start=20" TargetMode="External"/><Relationship Id="rId13" Type="http://schemas.openxmlformats.org/officeDocument/2006/relationships/image" Target="../media/image64.jpeg"/><Relationship Id="rId14" Type="http://schemas.openxmlformats.org/officeDocument/2006/relationships/hyperlink" Target="http://images.google.com/imgres?imgurl=http://www.depts.ttu.edu/fyre/Regalia.jpg&amp;imgrefurl=http://www.depts.ttu.edu/fyre/acregalia.htm&amp;usg=__i7k_zUehuFDYeWRm0473jdHazh0=&amp;h=314&amp;w=371&amp;sz=29&amp;hl=EN&amp;start=37&amp;tbnid=ocRfFJzMxH-nYM:&amp;tbnh=103&amp;tbnw=122&amp;prev=/images?q=regalia&amp;gbv=2&amp;ndsp=20&amp;hl=EN&amp;sa=N&amp;start=20" TargetMode="External"/><Relationship Id="rId15" Type="http://schemas.openxmlformats.org/officeDocument/2006/relationships/image" Target="../media/image65.jpeg"/><Relationship Id="rId16" Type="http://schemas.openxmlformats.org/officeDocument/2006/relationships/hyperlink" Target="http://images.google.com/imgres?imgurl=http://www.wisdomoftheelders.org/prog301/images/youth_regalia.jpg&amp;imgrefurl=http://www.wisdomoftheelders.org/prog301/transcript_ew.htm&amp;usg=__-zUUkSH03Nmf3eFgykn7cigzkkE=&amp;h=1069&amp;w=800&amp;sz=75&amp;hl=EN&amp;start=34&amp;tbnid=VOgqpxxiwvKh3M:&amp;tbnh=150&amp;tbnw=112&amp;prev=/images?q=regalia&amp;gbv=2&amp;ndsp=20&amp;hl=EN&amp;sa=N&amp;start=20" TargetMode="External"/><Relationship Id="rId17" Type="http://schemas.openxmlformats.org/officeDocument/2006/relationships/image" Target="../media/image66.jpeg"/><Relationship Id="rId18" Type="http://schemas.openxmlformats.org/officeDocument/2006/relationships/hyperlink" Target="http://images.google.com/imgres?imgurl=http://www.british-towns.net/britain/jubilee/images/regalia_01.jpg&amp;imgrefurl=http://www.british-towns.net/britain/jubilee/regalia.asp&amp;usg=__SO6VIzRdiHY5APfmkKcNULBYRTM=&amp;h=629&amp;w=507&amp;sz=113&amp;hl=EN&amp;start=43&amp;tbnid=44ljCaswq5OBIM:&amp;tbnh=137&amp;tbnw=110&amp;prev=/images?q=regalia&amp;gbv=2&amp;ndsp=20&amp;hl=EN&amp;sa=N&amp;start=40" TargetMode="External"/><Relationship Id="rId19" Type="http://schemas.openxmlformats.org/officeDocument/2006/relationships/image" Target="../media/image67.jpeg"/><Relationship Id="rId20" Type="http://schemas.openxmlformats.org/officeDocument/2006/relationships/hyperlink" Target="http://images.google.com/imgres?imgurl=http://www.wawataynews.ca/files/images/Regalia.preview.jpg&amp;imgrefurl=http://www.wawataynews.ca/node/15072&amp;usg=__h83s7otFD5m-mrAGwrzmmxHqY2Y=&amp;h=610&amp;w=500&amp;sz=94&amp;hl=EN&amp;start=120&amp;tbnid=Ho7H9TI3sstYhM:&amp;tbnh=136&amp;tbnw=111&amp;prev=/images?q=regalia&amp;gbv=2&amp;ndsp=20&amp;hl=EN&amp;sa=N&amp;start=100" TargetMode="External"/><Relationship Id="rId21" Type="http://schemas.openxmlformats.org/officeDocument/2006/relationships/image" Target="../media/image68.jpeg"/><Relationship Id="rId22" Type="http://schemas.openxmlformats.org/officeDocument/2006/relationships/hyperlink" Target="http://images.google.com/imgres?imgurl=http://www.clemson.edu/academics/images/regalia.jpg&amp;imgrefurl=http://www.clemson.edu/academics/regalia.html&amp;usg=__T7TPo5mnnsbRgR61vdd3CO0VKBY=&amp;h=282&amp;w=550&amp;sz=57&amp;hl=EN&amp;start=197&amp;tbnid=j5efSHLz0mqxRM:&amp;tbnh=68&amp;tbnw=133&amp;prev=/images?q=regalia&amp;gbv=2&amp;ndsp=20&amp;hl=EN&amp;sa=N&amp;start=180" TargetMode="External"/><Relationship Id="rId23" Type="http://schemas.openxmlformats.org/officeDocument/2006/relationships/image" Target="../media/image69.jpeg"/><Relationship Id="rId2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hyperlink" Target="http://images.google.com/imgres?imgurl=http://www.coolpicking.com/imgname--multicolored_love_the_coolest_valentines_day_gift---50226711--happyroses.JPG&amp;imgrefurl=http://www.coolpicking.com/50226711/multicolored_love_the_coolest_valentines_day_gift.php&amp;usg=__kH1ag4ZMi692C5dyaKBIIv_BewA=&amp;h=417&amp;w=300&amp;sz=36&amp;hl=EN&amp;start=1&amp;tbnid=KPNC3has34-iDM:&amp;tbnh=125&amp;tbnw=90&amp;prev=/images?q=multicolored&amp;gbv=2&amp;hl=EN" TargetMode="External"/><Relationship Id="rId3" Type="http://schemas.openxmlformats.org/officeDocument/2006/relationships/image" Target="../media/image71.jpeg"/><Relationship Id="rId4" Type="http://schemas.openxmlformats.org/officeDocument/2006/relationships/hyperlink" Target="http://images.google.com/imgres?imgurl=http://ursispaltenstein.ch/blog/images/uploads_img/we_are_multicolored_2.jpg&amp;imgrefurl=http://www.ursispaltenstein.ch/blog/weblog.php?/weblog/2007/11/P90/&amp;usg=__b3NN3rmFlGzRTsj69I_OWpnWfmk=&amp;h=388&amp;w=559&amp;sz=112&amp;hl=EN&amp;start=2&amp;tbnid=FBHtvSBKa36zmM:&amp;tbnh=92&amp;tbnw=133&amp;prev=/images?q=multicolored&amp;gbv=2&amp;hl=EN" TargetMode="External"/><Relationship Id="rId5" Type="http://schemas.openxmlformats.org/officeDocument/2006/relationships/image" Target="../media/image72.jpeg"/><Relationship Id="rId6" Type="http://schemas.openxmlformats.org/officeDocument/2006/relationships/hyperlink" Target="http://images.google.com/imgres?imgurl=http://www.deviantart.com/download/90687954/Multicolored_Daisies_2_by_midnighteskye.jpg&amp;imgrefurl=http://midnighteskye.deviantart.com/art/Multicolored-Daisies-2-90687954&amp;usg=__qsmyCnUp5BKCMHlaZrezoEAv4Yg=&amp;h=2736&amp;w=3648&amp;sz=2589&amp;hl=EN&amp;start=13&amp;tbnid=SVCk-uTfbRZlYM:&amp;tbnh=113&amp;tbnw=150&amp;prev=/images?q=multicolored&amp;gbv=2&amp;hl=EN" TargetMode="External"/><Relationship Id="rId7" Type="http://schemas.openxmlformats.org/officeDocument/2006/relationships/image" Target="../media/image73.jpeg"/><Relationship Id="rId8" Type="http://schemas.openxmlformats.org/officeDocument/2006/relationships/hyperlink" Target="http://images.google.com/imgres?imgurl=http://z.about.com/d/gonw/1/0/-/J/-/-/multicolored_tulip_field4.jpg&amp;imgrefurl=http://gonw.about.com/od/photoswa/ig/Skagit-Valley-Tulip-Festival-/Multi-colored-Rows-of-Tulips-.--Qz.htm&amp;usg=__AmXjiscDnIfE53bbOi0RN1BWRDo=&amp;h=480&amp;w=640&amp;sz=261&amp;hl=EN&amp;start=15&amp;tbnid=CRbovBsi8q8JJM:&amp;tbnh=103&amp;tbnw=137&amp;prev=/images?q=multicolored&amp;gbv=2&amp;hl=EN" TargetMode="External"/><Relationship Id="rId9" Type="http://schemas.openxmlformats.org/officeDocument/2006/relationships/image" Target="../media/image74.jpeg"/><Relationship Id="rId10" Type="http://schemas.openxmlformats.org/officeDocument/2006/relationships/hyperlink" Target="http://images.google.com/imgres?imgurl=http://stevecambronne.com/08_MARCH_MOD_ART_ARTCLOCK_MULTICOLORED2005-04-05.JPG&amp;imgrefurl=http://www.stevecambronne.com/modern_retro_metal_art_clocks.html&amp;usg=__BiDTZEg6DcvZdZntarCL1RaiI2c=&amp;h=640&amp;w=447&amp;sz=57&amp;hl=EN&amp;start=18&amp;tbnid=jbUL3YpXo5auqM:&amp;tbnh=137&amp;tbnw=96&amp;prev=/images?q=multicolored&amp;gbv=2&amp;hl=EN" TargetMode="External"/><Relationship Id="rId11" Type="http://schemas.openxmlformats.org/officeDocument/2006/relationships/image" Target="../media/image75.jpeg"/><Relationship Id="rId12" Type="http://schemas.openxmlformats.org/officeDocument/2006/relationships/hyperlink" Target="http://images.google.com/imgres?imgurl=http://www.eukicks.com/wp-content/uploads/2008/02/betruemulti3.jpg&amp;imgrefurl=http://www.eukicks.com/nike-dunk-high-be-true-six-pack-multicolored/&amp;usg=__1iNsJhtrFe3KHJ-Tt0HQLcrC4oQ=&amp;h=389&amp;w=520&amp;sz=41&amp;hl=EN&amp;start=24&amp;tbnid=g3cnvX9yBtncYM:&amp;tbnh=98&amp;tbnw=131&amp;prev=/images?q=multicolored&amp;gbv=2&amp;ndsp=20&amp;hl=EN&amp;sa=N&amp;start=20" TargetMode="External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ww.troop1wla.org/sash.gif&amp;imgrefurl=http://www.troop1wla.org/scouts.htm&amp;usg=__ZThaR9dBo-56Ms7T_A_sVCeJJmc=&amp;h=801&amp;w=540&amp;sz=29&amp;hl=EN&amp;start=8&amp;tbnid=4tGVpeZhH16PSM:&amp;tbnh=143&amp;tbnw=96&amp;prev=/images?q=sash&amp;gbv=2&amp;hl=EN" TargetMode="External"/><Relationship Id="rId3" Type="http://schemas.openxmlformats.org/officeDocument/2006/relationships/image" Target="../media/image77.jpeg"/><Relationship Id="rId4" Type="http://schemas.openxmlformats.org/officeDocument/2006/relationships/hyperlink" Target="http://images.google.com/imgres?imgurl=http://www.centerstagecostumes.com/Images/Stage2/Pirate_Sash1.jpg&amp;imgrefurl=http://www.centerstagecostumes.com/Catalog/Pirate_Sash.htm&amp;usg=__hhTZccltTnYQ5zs6MrTVL_34ghs=&amp;h=301&amp;w=380&amp;sz=21&amp;hl=EN&amp;start=9&amp;tbnid=ky_Rz1I4DOMdOM:&amp;tbnh=97&amp;tbnw=123&amp;prev=/images?q=sash&amp;gbv=2&amp;hl=EN" TargetMode="External"/><Relationship Id="rId5" Type="http://schemas.openxmlformats.org/officeDocument/2006/relationships/image" Target="../media/image78.jpeg"/><Relationship Id="rId6" Type="http://schemas.openxmlformats.org/officeDocument/2006/relationships/hyperlink" Target="http://images.google.com/imgres?imgurl=http://www.girlsnighttogo.com/v/vspfiles/assets/images/sash2.jpg&amp;imgrefurl=http://www.girlsnighttogo.com/bachelorette_sash_p/gnosh.htm&amp;usg=__cW-QZYVjaeVAxVKYsB1b6gy8H4k=&amp;h=823&amp;w=522&amp;sz=189&amp;hl=EN&amp;start=19&amp;tbnid=BjWkFqsd-fHxzM:&amp;tbnh=144&amp;tbnw=91&amp;prev=/images?q=sash&amp;gbv=2&amp;hl=EN" TargetMode="External"/><Relationship Id="rId7" Type="http://schemas.openxmlformats.org/officeDocument/2006/relationships/image" Target="../media/image79.jpeg"/><Relationship Id="rId8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4&amp;tbnid=rOCPAdpOdy6PgM:&amp;tbnh=127&amp;tbnw=96&amp;prev=/images?q=sash&amp;gbv=2&amp;ndsp=20&amp;hl=EN&amp;sa=N&amp;start=20" TargetMode="External"/><Relationship Id="rId9" Type="http://schemas.openxmlformats.org/officeDocument/2006/relationships/image" Target="../media/image80.jpeg"/><Relationship Id="rId10" Type="http://schemas.openxmlformats.org/officeDocument/2006/relationships/hyperlink" Target="http://images.google.com/imgres?imgurl=http://www.northwindvisions.com/StarFlowersSash_sm.jpg&amp;imgrefurl=http://www.northwindvisions.com/sashes.htm&amp;usg=__oRZmJjB2mIVGqOyjtC3IuGsU1Ug=&amp;h=388&amp;w=300&amp;sz=38&amp;hl=EN&amp;start=33&amp;tbnid=R24lXeX6TBLK2M:&amp;tbnh=123&amp;tbnw=95&amp;prev=/images?q=sash&amp;gbv=2&amp;ndsp=20&amp;hl=EN&amp;sa=N&amp;start=20" TargetMode="External"/><Relationship Id="rId11" Type="http://schemas.openxmlformats.org/officeDocument/2006/relationships/image" Target="../media/image81.jpeg"/><Relationship Id="rId12" Type="http://schemas.openxmlformats.org/officeDocument/2006/relationships/hyperlink" Target="http://images.google.com/imgres?imgurl=http://www.petdoors.com/images/PatioPacific/PatioPacific-ThermoSash-Large-Dog-300.jpg&amp;imgrefurl=http://www.petdoors.com/thermosash.htm&amp;usg=__ZSEbWiM72GAa6PzNrZ-8Z3IIYUo=&amp;h=319&amp;w=300&amp;sz=19&amp;hl=EN&amp;start=41&amp;tbnid=ScNACRTNPJ0gmM:&amp;tbnh=118&amp;tbnw=111&amp;prev=/images?q=sash&amp;gbv=2&amp;ndsp=20&amp;hl=EN&amp;sa=N&amp;start=40" TargetMode="External"/><Relationship Id="rId13" Type="http://schemas.openxmlformats.org/officeDocument/2006/relationships/image" Target="../media/image82.jpeg"/><Relationship Id="rId14" Type="http://schemas.openxmlformats.org/officeDocument/2006/relationships/hyperlink" Target="http://images.google.com/imgres?imgurl=http://home.att.net/~ordersandmedals/Cuba_Cespedes_sash_badge_1.jpg&amp;imgrefurl=http://home.att.net/~david.danner/militaria.html&amp;usg=__MKlK-CM81d-B5SiAz2DVENU65e0=&amp;h=662&amp;w=525&amp;sz=108&amp;hl=EN&amp;start=57&amp;tbnid=Z7iz8ckPcRFtVM:&amp;tbnh=138&amp;tbnw=109&amp;prev=/images?q=sash&amp;gbv=2&amp;ndsp=20&amp;hl=EN&amp;sa=N&amp;start=40" TargetMode="External"/><Relationship Id="rId15" Type="http://schemas.openxmlformats.org/officeDocument/2006/relationships/image" Target="../media/image83.jpeg"/><Relationship Id="rId16" Type="http://schemas.openxmlformats.org/officeDocument/2006/relationships/hyperlink" Target="http://images.google.com/imgres?imgurl=http://www.replacementwindows.ie/system/images/sash.jpg&amp;imgrefurl=http://www.replacementwindows.ie/sash-windows&amp;usg=__WTf5rwZKhv_1CHQfxynpkdWFDGM=&amp;h=310&amp;w=695&amp;sz=237&amp;hl=EN&amp;start=99&amp;tbnid=goIkBXD8xSsSUM:&amp;tbnh=62&amp;tbnw=139&amp;prev=/images?q=sash&amp;gbv=2&amp;ndsp=20&amp;hl=EN&amp;sa=N&amp;start=80" TargetMode="External"/><Relationship Id="rId17" Type="http://schemas.openxmlformats.org/officeDocument/2006/relationships/image" Target="../media/image84.jpeg"/><Relationship Id="rId1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3.xml"/><Relationship Id="rId3" Type="http://schemas.openxmlformats.org/officeDocument/2006/relationships/slide" Target="slide65.xml"/><Relationship Id="rId4" Type="http://schemas.openxmlformats.org/officeDocument/2006/relationships/slide" Target="slide97.xml"/><Relationship Id="rId5" Type="http://schemas.openxmlformats.org/officeDocument/2006/relationships/slide" Target="slide11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3.bp.blogspot.com/_6lBF7HTC17E/SWJI2YElAKI/AAAAAAAACGg/DuX4IR_BGqI/s400/-baklava-recipe_mraz.jpg&amp;imgrefurl=http://jo-inspired.blogspot.com/&amp;usg=__6hpkrzD1eo44Znrd_DnUeTxhGfo=&amp;h=265&amp;w=270&amp;sz=24&amp;hl=EN&amp;start=17&amp;tbnid=q4qnWeaBa7WA5M:&amp;tbnh=111&amp;tbnw=113&amp;prev=/images?q=baklava&amp;gbv=2&amp;hl=EN&amp;sa=G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3.bp.blogspot.com/_UIXOn06Pz70/R-ghsnYm1gI/AAAAAAAACV4/TeY6gmo442E/s800/Baklava.jpg&amp;imgrefurl=http://closetcooking.blogspot.com/2008/03/baklava.html&amp;usg=__VKrOdMUOSG7yn0kH1hVMoXF8qTo=&amp;h=375&amp;w=500&amp;sz=57&amp;hl=EN&amp;start=1&amp;tbnid=7eD6cg7IQ9RbjM:&amp;tbnh=98&amp;tbnw=130&amp;prev=/images?q=baklava&amp;gbv=2&amp;hl=EN&amp;sa=G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upload.wikimedia.org/wikipedia/commons/8/8f/Baklava_-_Turkish_special,_80-ply.JPEG&amp;imgrefurl=http://commons.wikimedia.org/wiki/File:Baklava_-_Turkish_special,_80-ply.JPEG&amp;usg=__OyoqFwlFY0RoSDxM456XlkbsT08=&amp;h=1024&amp;w=1542&amp;sz=637&amp;hl=EN&amp;start=8&amp;tbnid=NvwnsoVeudcsxM:&amp;tbnh=100&amp;tbnw=150&amp;prev=/images?q=baklava&amp;gbv=2&amp;hl=EN&amp;sa=G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american.edu/ted/images4/baklava4.jpg&amp;imgrefurl=http://www.american.edu/ted/baklava.htm&amp;usg=__z-taz_4F6U-iqxOKC_QNMvF332I=&amp;h=304&amp;w=450&amp;sz=27&amp;hl=EN&amp;start=15&amp;tbnid=UFPR0dltjZLUfM:&amp;tbnh=86&amp;tbnw=127&amp;prev=/images?q=baklava&amp;gbv=2&amp;hl=EN&amp;sa=G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kabobsexpress.com/images/menu/baklava-large.jpg&amp;imgrefurl=http://www.kabobsexpress.com/menu.php?id=6&amp;usg=__CGdpj-8r-mDKIhNOQNthlmlC1DY=&amp;h=534&amp;w=800&amp;sz=322&amp;hl=EN&amp;start=26&amp;tbnid=eQkPXe2H8mJosM:&amp;tbnh=95&amp;tbnw=143&amp;prev=/images?q=baklava&amp;gbv=2&amp;ndsp=20&amp;hl=EN&amp;sa=N&amp;start=20" TargetMode="External"/><Relationship Id="rId11" Type="http://schemas.openxmlformats.org/officeDocument/2006/relationships/image" Target="../media/image89.jpeg"/><Relationship Id="rId12" Type="http://schemas.openxmlformats.org/officeDocument/2006/relationships/image" Target="../media/image90.jpeg"/><Relationship Id="rId1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What are some different ways that people celebrate?</a:t>
            </a:r>
            <a:br>
              <a:rPr sz="4000"/>
            </a:br>
            <a:r>
              <a:rPr b="0" lang="en-US" sz="1800" spc="-1" strike="noStrike">
                <a:solidFill>
                  <a:srgbClr val="ffc000"/>
                </a:solidFill>
                <a:latin typeface="Tahoma"/>
                <a:ea typeface="Tahoma"/>
              </a:rPr>
              <a:t>Click to listen to the story.</a:t>
            </a:r>
            <a:endParaRPr b="0" lang="en-US" sz="1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724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1" descr="Jingle Dan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327400"/>
            <a:ext cx="36385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0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does your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 Many people get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ogethe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celebrate special occasions.  People all around t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  <a:ea typeface="Verdana"/>
              </a:rPr>
              <a:t>Bringing the Ligh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neighbor and I had quite an adventure selling clothes at the midyear a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Rauls taught us to draw with ch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finally caught the baseball after hours of awkward mistak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paid our money and saw an action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nly thing Mom said was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always naughty to misbehave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a question about the culture show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3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4582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y voise craked last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My voice cracked last 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he playing the drom l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ahoma"/>
                <a:ea typeface="Tahoma"/>
              </a:rPr>
              <a:t>He played the drum loudly.</a:t>
            </a: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90ce"/>
                </a:solidFill>
                <a:latin typeface="Verdana"/>
              </a:rPr>
              <a:t>Put these sentences in an order that makes sense.  Write them in a paragrap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 performed a dance on Satu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The family had a great time at the Crow Fair and Ro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Marc</a:t>
            </a:r>
            <a:r>
              <a:rPr b="0" lang="ja-JP" sz="28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s family arrived on Friday afternoon and set up their ti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He wore a grass dance outfit and an eagle f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Indent 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Marc</a:t>
            </a:r>
            <a:r>
              <a:rPr b="0" lang="ja-JP" sz="32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de"/>
                </a:solidFill>
                <a:latin typeface="Verdana"/>
              </a:rPr>
              <a:t>s family arrived on Friday afternoon and set up their tipi.  Marc performed a dance on Saturday.  He wore a grass dance outfit and an eagle feather.  The family had a great time at the Crow Fair and Rod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</a:t>
            </a:r>
            <a:r>
              <a:rPr b="1" lang="ja-JP" sz="4000" spc="-1" strike="noStrike">
                <a:solidFill>
                  <a:srgbClr val="7cd3c6"/>
                </a:solidFill>
                <a:latin typeface="Verdana"/>
              </a:rPr>
              <a:t>’</a:t>
            </a: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 up stra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ose appropriate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on the listen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Listen for Speaker</a:t>
            </a:r>
            <a:r>
              <a:rPr b="1" lang="ja-JP" sz="4000" spc="-1" strike="noStrike">
                <a:solidFill>
                  <a:srgbClr val="7cd3c6"/>
                </a:solidFill>
                <a:latin typeface="Verdana"/>
              </a:rPr>
              <a:t>’</a:t>
            </a: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s Purpose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 the speaker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pret the speaker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the quality of a project or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ake Connections:  Text to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day we read about the Crow Nation and how they celebrate Buffalo Days.  Tomorrow we will hear about a little girl and a special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1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escribe a special ceremo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219320" y="1981080"/>
          <a:ext cx="7391160" cy="418788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his week we read about festivals. We read about a ceremony called a  powwow. We learned how the Crow Nation celebrates Buffalo Days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ime Lin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mis-, mid-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dyear test was full of mistakes and mispr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winter afternoons can be as dark as mid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id he misunderstood the rules about misconduct and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misplace the toy boat we wanted to sail midstre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pposite of lend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go together: gold an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hing you beat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Verdana"/>
              </a:rPr>
              <a:t>Vocabulary</a:t>
            </a:r>
            <a:br>
              <a:rPr sz="4000"/>
            </a:br>
            <a:r>
              <a:rPr b="1" lang="en-US" sz="2000" spc="-1" strike="noStrike">
                <a:solidFill>
                  <a:srgbClr val="ffcc99"/>
                </a:solidFill>
                <a:latin typeface="Verdana"/>
              </a:rPr>
              <a:t>jingle, borrow, silver, clattering, drum, voice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und a bell makes is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___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use you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a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ther word for banging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8001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 cant hear your voise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 can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 hear your voic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 your silver 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silver r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ad90ce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cd3c6"/>
                </a:solidFill>
                <a:latin typeface="Tahoma"/>
                <a:ea typeface="Tahoma"/>
              </a:rPr>
              <a:t>Wrap Up Your Week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Let</a:t>
            </a:r>
            <a:r>
              <a:rPr b="1" lang="ja-JP" sz="4800" spc="-1" strike="noStrike">
                <a:solidFill>
                  <a:srgbClr val="ffffde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s Talk About</a:t>
            </a:r>
            <a:br>
              <a:rPr sz="4800"/>
            </a:b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radition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8288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Friday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danc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Rectangle 42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Related Links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7524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Native American Pla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6" name="Rectangle 10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APTPlus Videos (Password Required)</a:t>
            </a:r>
            <a:r>
              <a:rPr b="0" lang="en-US" sz="36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447920" y="1828800"/>
          <a:ext cx="6933960" cy="44956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 Today (27:15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Northwest Coast (26:17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Plains (26:26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Desert (28:34)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ve Americans: People of the Forest (29:2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 – e – mo - ny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that people do to celebrate a special occasion.  Examples are a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officially open a new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aun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wedd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as held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mayor attended the groundbreaking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erem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he new playg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ahoma"/>
                <a:ea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de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Quiz # 9046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eremony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7" descr="indoor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ceremony_oce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981080"/>
            <a:ext cx="2533680" cy="2305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ceremo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438280"/>
            <a:ext cx="2192400" cy="3276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memorial_ceremo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397400"/>
            <a:ext cx="2600280" cy="1727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olympics-opening-ceremony-4151059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178160"/>
            <a:ext cx="26672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ulture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 - ture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call the beliefs, customs, and behaviors of groups of people at a certain time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Japanese tea ceremony is a part of their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are many Native America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ultur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Japanese Tea Ceremon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7" descr="Japanese_Tea_Cerem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981080"/>
            <a:ext cx="2000520" cy="1808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japanese-tea-ceremony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78440"/>
            <a:ext cx="2667240" cy="2017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japteaceremony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981080"/>
            <a:ext cx="2667240" cy="1941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japanese-tea-garden-2_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2362320"/>
            <a:ext cx="2720880" cy="3124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61160" y="3962520"/>
            <a:ext cx="20210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 – ti – val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rogram of entertainment often held annu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 hav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elebrate religious holi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August our town has a corn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estiv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estival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47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6" descr="lante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124080"/>
            <a:ext cx="2276640" cy="1505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CambridgeScienceFestival_3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447920"/>
            <a:ext cx="2301840" cy="23619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anta%2520monica%2520festival3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403848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0301221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1143000"/>
            <a:ext cx="2590560" cy="1938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4" descr="festival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719600"/>
            <a:ext cx="2342880" cy="1728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6" descr="yosakoi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114300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festiva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66680" y="4660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Maui_Film_Festival_1_or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66680" y="3200400"/>
            <a:ext cx="2590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Festival Time"/>
          <p:cNvPicPr/>
          <p:nvPr/>
        </p:nvPicPr>
        <p:blipFill>
          <a:blip r:embed="rId1"/>
          <a:srcRect l="0" t="0" r="0" b="8873"/>
          <a:stretch/>
        </p:blipFill>
        <p:spPr>
          <a:xfrm>
            <a:off x="3505320" y="228600"/>
            <a:ext cx="5257800" cy="6462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2361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e"/>
                </a:solidFill>
                <a:latin typeface="Verdana"/>
                <a:ea typeface="Verdana"/>
              </a:rPr>
              <a:t>Listen to a song about a festival.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bcbc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7334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cd3c6"/>
                </a:solidFill>
                <a:latin typeface="Verdana"/>
              </a:rPr>
              <a:t>Small 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fcc99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7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paint    -    disag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do you know about reading these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l learn about adding prefixes mis- and mid- to the beginning of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ch prefix has a special mea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-   -  not or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-   -  half or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47240" y="137124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s is a two-syllable word made from the base word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the prefix </a:t>
            </a:r>
            <a:r>
              <a:rPr b="0" lang="en-US" sz="3200" spc="-1" strike="noStrike">
                <a:solidFill>
                  <a:srgbClr val="ad90ce"/>
                </a:solidFill>
                <a:latin typeface="Tahoma"/>
                <a:ea typeface="Tahoma"/>
              </a:rPr>
              <a:t>mi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You can chunk the word into its parts—the prefix and the bas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ver the prefix, then read the base word, read the prefix, and blend the two together to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295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pri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d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y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br>
              <a:rPr sz="4400"/>
            </a:b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1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aftern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pa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elp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un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opefu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ds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s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imles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j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memb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 Birthday Basket for 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  This story told about a girl named Cecilia as she prepared for her aun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 birth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at character traits describe Ceci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Character, Setting, Plot</a:t>
            </a:r>
            <a:br>
              <a:rPr sz="4400"/>
            </a:b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ior Knowledge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7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identify the characters in a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y also know where and when the story tak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ood readers can place events of a story in order from beginning to 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use prior knowledge (things we knew before) to help us understand what we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e can make connections from our lives to the s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t is february,</a:t>
            </a:r>
            <a:r>
              <a:rPr b="1" lang="ja-JP" sz="4800" spc="-1" strike="noStrike">
                <a:solidFill>
                  <a:srgbClr val="ffffff"/>
                </a:solidFill>
                <a:latin typeface="Tahoma"/>
                <a:ea typeface="Tahoma"/>
              </a:rPr>
              <a:t>”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 matt sa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“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t is February,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”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 Matt said.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may i borrow your bell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May I borrow your bel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Verdana"/>
              </a:rPr>
              <a:t>Review Games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181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/>
              </a:rPr>
              <a:t>Arcade G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7"/>
              </a:rPr>
              <a:t>Spelling City: 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8"/>
              </a:rPr>
              <a:t>Spelling City: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5238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d3c6"/>
                </a:solidFill>
                <a:latin typeface="Tahoma"/>
                <a:ea typeface="Tahoma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bout traditions of Native American danc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82880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festival.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grateful that people give her jingles. The jingles make a lovely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43000" y="1981080"/>
          <a:ext cx="7238880" cy="418788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 girl who wants to dance at a powwow. She is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grate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hat people give her jingles. The jingles make 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love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sound. What sounds make you happy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 and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Unfamilia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complimen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 – pli – men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omething kind said about you, or praise given to someone e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mother paid me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n my art project by saying she liked the pastel colors I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give my little brothe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compli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he does something g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fidget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 - et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move around in a restless way, you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lway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I am supposed to sit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said I should not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fidg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we are at the conc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 – er - green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word used to describe a type of tree or shrub that stays green all year long, such as pine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branches looked pretty with snow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us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ever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lippings to make a wreath for our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evergreen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47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Picture 6" descr="landing_evergre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00200"/>
            <a:ext cx="2195640" cy="2895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snowy-evergreen-t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97720" y="16002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evergre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708440"/>
            <a:ext cx="2590920" cy="1720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bald-eagle-evergre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191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4" descr="PineTreeCross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905120"/>
            <a:ext cx="2771640" cy="20732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6" descr="pinetree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941720"/>
            <a:ext cx="23335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Magda</a:t>
            </a:r>
            <a:r>
              <a:rPr b="1" lang="ja-JP" sz="4400" spc="-1" strike="noStrike">
                <a:solidFill>
                  <a:srgbClr val="ffffde"/>
                </a:solidFill>
                <a:latin typeface="Verdana"/>
                <a:ea typeface="Verdana"/>
              </a:rPr>
              <a:t>’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  <a:ea typeface="Verdana"/>
              </a:rPr>
              <a:t>s Tortilla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476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prefix and base word form mid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to a word with a prefix, figure out the base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read the prefix and base word and blend the two word parts together to read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819520" y="1447560"/>
            <a:ext cx="600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ap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di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t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8" descr="Phonics Songs and Rhymes Chart 30"/>
          <p:cNvPicPr/>
          <p:nvPr/>
        </p:nvPicPr>
        <p:blipFill>
          <a:blip r:embed="rId1"/>
          <a:srcRect l="0" t="0" r="1641" b="1270"/>
          <a:stretch/>
        </p:blipFill>
        <p:spPr>
          <a:xfrm>
            <a:off x="4038480" y="15228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2533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e"/>
                </a:solidFill>
                <a:latin typeface="Verdana"/>
                <a:ea typeface="Verdana"/>
              </a:rPr>
              <a:t>Listen for words with mid- or mis-.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Find the words with these prefixes in </a:t>
            </a:r>
            <a:r>
              <a:rPr b="1" i="1" lang="ja-JP" sz="2000" spc="-1" strike="noStrike">
                <a:solidFill>
                  <a:srgbClr val="7cd3c6"/>
                </a:solidFill>
                <a:latin typeface="Verdana"/>
                <a:ea typeface="Arial"/>
              </a:rPr>
              <a:t>“</a:t>
            </a:r>
            <a:r>
              <a:rPr b="1" i="1" lang="en-US" sz="2000" spc="-1" strike="noStrike">
                <a:solidFill>
                  <a:srgbClr val="7cd3c6"/>
                </a:solidFill>
                <a:latin typeface="Verdana"/>
                <a:ea typeface="Arial"/>
              </a:rPr>
              <a:t>Powwow.</a:t>
            </a:r>
            <a:r>
              <a:rPr b="1" i="1" lang="ja-JP" sz="2000" spc="-1" strike="noStrike">
                <a:solidFill>
                  <a:srgbClr val="7cd3c6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600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n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isbe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br>
              <a:rPr sz="4400"/>
            </a:br>
            <a:r>
              <a:rPr b="1" i="1" lang="en-US" sz="2400" spc="-1" strike="noStrike">
                <a:solidFill>
                  <a:srgbClr val="7cd3c6"/>
                </a:solidFill>
                <a:latin typeface="Verdana"/>
                <a:ea typeface="Arial"/>
              </a:rPr>
              <a:t>Add one of these prefixes to each of these words to make a new word.</a:t>
            </a:r>
            <a:endParaRPr b="0" lang="en-US" sz="2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228600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m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lab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0976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comp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s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mid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Prefixes </a:t>
            </a:r>
            <a:r>
              <a:rPr b="1" i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is-, mid-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219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kicked the football in midair at the midweek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istake in the newspaper was just a mis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sdeed can be the result of mis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isplace a sock you might get a mismat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hollow musical instrument with a cover stretched tight over either or both ends that makes a sound when it is be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noise like plates or silverware stri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sound you make with your mouth when you speak, sing, or shout              </a:t>
            </a:r>
            <a:r>
              <a:rPr b="0" lang="en-US" sz="24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drum</a:t>
            </a: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6" descr="Drum_S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drum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3276720"/>
            <a:ext cx="1752840" cy="1636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0" descr="steel-dru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3352680"/>
            <a:ext cx="1771560" cy="1540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2" descr="drum_muffling-71456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1676520"/>
            <a:ext cx="2057400" cy="1420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4" descr="Ewe%2520drum%2520ensemble%2520Sogo%2520Kidi%2520Kag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1676520"/>
            <a:ext cx="1828800" cy="1363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puppy_dru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238880" y="5219640"/>
            <a:ext cx="1581120" cy="1190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0" descr="SmallRaffleDru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5181480"/>
            <a:ext cx="1523880" cy="1192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2" descr="drum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1320" y="5307120"/>
            <a:ext cx="1295280" cy="10746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4" descr="JR-ReplDrum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895480" y="5181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6" descr="LargeDrumGrater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066680" y="546084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8" descr="3707121_DBL%2520BONGO%2520DRUM_0908%3F%24zm%24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315200" y="16765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drum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066680" y="3657600"/>
            <a:ext cx="1676520" cy="1309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4" descr="alesis_DM-5_digital_drum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48120" y="3276720"/>
            <a:ext cx="1533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476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6" descr="Silver_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02920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prodSilv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1467000" cy="12985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silver-american19-obverse-l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5029200"/>
            <a:ext cx="1371600" cy="134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figure_3_vallejo_silv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523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silver-kiddush-cup-11013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6" descr="Silver_Cha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320040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8" descr="CanadianSilver%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143000" y="3276720"/>
            <a:ext cx="2895480" cy="14270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Silver_Plate_And_Bow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09880" y="1523880"/>
            <a:ext cx="2133720" cy="1489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2" descr="5silver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0" y="1523880"/>
            <a:ext cx="1924200" cy="145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4" descr="cleaning-silver-hm-l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029200" y="327672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 moccasin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047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Picture 7" descr="BuffaloMoccasinsView3L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3505320"/>
            <a:ext cx="1419480" cy="1057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deerhide-moccasins-0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52388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moccasins_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396252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Moccasi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3581280"/>
            <a:ext cx="2130480" cy="27529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5" descr="destiny%27s%2520moccasin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05600" y="1523880"/>
            <a:ext cx="1805040" cy="1905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090105_minnetonka_moccasins_sho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1148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9" descr="GreenMoccasin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934320" y="4645080"/>
            <a:ext cx="1866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regali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7" descr="Navajo_Regalia_New_Mexico-1024x768-bandwidth-thi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1295280"/>
            <a:ext cx="1981440" cy="149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1" descr="truman_portrait_masonic_regal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2952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Russian_regal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1295280"/>
            <a:ext cx="1419480" cy="1209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" descr="regalia_0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295280"/>
            <a:ext cx="1971720" cy="147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7" descr="3-indians-regali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2903400"/>
            <a:ext cx="1981440" cy="1870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9" descr="NativeAmerican_Regali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97240" y="4191120"/>
            <a:ext cx="1531800" cy="2419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Regalia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066680" y="4946760"/>
            <a:ext cx="198144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3" descr="youth_regali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43680" y="4191120"/>
            <a:ext cx="1806480" cy="2419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5" descr="regalia_0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2971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7" descr="Regal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75600" y="4724280"/>
            <a:ext cx="1554120" cy="1905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9" descr="regalia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809880" y="2819520"/>
            <a:ext cx="24386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make or cause to make sounds like b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silv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hiny white metal used to make coins, jewelry, and other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o get something from a person just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occasi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soft leather shoe without an attached h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2" action="ppaction://hlinksldjump"/>
              </a:rPr>
              <a:t>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3" action="ppaction://hlinksldjump"/>
              </a:rPr>
              <a:t>regalia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fine clot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</a:rPr>
              <a:t>shuffl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dragged your feet while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18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at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i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r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09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o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b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rr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47600" y="1447560"/>
            <a:ext cx="8096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prefix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eplay, play aga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or the two smaller words in a compound word 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unchbox, a box for lunc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Context Clue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7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666880" y="1447920"/>
          <a:ext cx="4267440" cy="46512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High Frequency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othe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u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ne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eighb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nl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ques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u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id like to borrw your dru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I</a:t>
            </a:r>
            <a:r>
              <a:rPr b="1" lang="ja-JP" sz="4800" spc="-1" strike="noStrike">
                <a:solidFill>
                  <a:srgbClr val="ffcc99"/>
                </a:solidFill>
                <a:latin typeface="Tahoma"/>
                <a:ea typeface="Tahoma"/>
              </a:rPr>
              <a:t>’</a:t>
            </a: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d like to borrow your drum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shake the sivler jingel b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Shake the silver jingle be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hear more about Mag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6160" y="1519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ues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828800" y="2514600"/>
          <a:ext cx="6095880" cy="3333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3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the bes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 you ever received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tried to imitate her abuela. She pinned her hair in a bun like her abuela. She flapped her apron and tried to tie it without looking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143000" y="1905120"/>
          <a:ext cx="7543800" cy="46749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Magda's Tortillas again. Magda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imitat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pinn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hair in a bun like her abuela. She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flapp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her apron and </a:t>
                      </a:r>
                      <a:r>
                        <a:rPr b="1" i="1" lang="en-US" sz="3200" spc="-1" strike="noStrike">
                          <a:solidFill>
                            <a:srgbClr val="ad90ce"/>
                          </a:solidFill>
                          <a:latin typeface="Tahoma"/>
                          <a:ea typeface="Tahoma"/>
                        </a:rPr>
                        <a:t>tri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o tie it without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look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Is there someone special that you imit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uf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–ness, -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895480" y="1447920"/>
          <a:ext cx="3886200" cy="4674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maz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remon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ultur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estival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mplimen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dge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ergree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color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s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1981080" y="30481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multicolored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 – ti – col – ored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has many different colors, we say it is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n the winter, I wear 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multicolo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cture contained reds, blues, greens, and yell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multicolored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6" name="Picture 7" descr="imgname--multicolored_love_the_coolest_valentines_day_gift---50226711--happyros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6600" y="1981080"/>
            <a:ext cx="1425600" cy="1981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e_are_multicolored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289400"/>
            <a:ext cx="2667240" cy="1844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Multicolored_Daisies_2_by_midnightesky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8098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3" descr="multicolored_tulip_field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5" descr="08_MARCH_MOD_ART_ARTCLOCK_MULTICOLORED2005-04-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421400" y="4191120"/>
            <a:ext cx="1341720" cy="1914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7" descr="betruemulti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95680" y="205740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d3c6"/>
                </a:solidFill>
                <a:latin typeface="Verdana"/>
                <a:ea typeface="Arial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  </a:t>
            </a:r>
            <a:r>
              <a:rPr b="1" lang="en-US" sz="3200" spc="-1" strike="noStrike">
                <a:solidFill>
                  <a:srgbClr val="ffffde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long piece of cloth that can be tied around your waist or worn over one shoul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like a scar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wore a red </a:t>
            </a:r>
            <a:r>
              <a:rPr b="1" lang="en-US" sz="3200" spc="-1" strike="noStrike">
                <a:solidFill>
                  <a:srgbClr val="ffcc99"/>
                </a:solidFill>
                <a:latin typeface="Verdana"/>
                <a:ea typeface="Arial"/>
              </a:rPr>
              <a:t>s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her waist as part of her cost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Verdana"/>
                <a:ea typeface="Arial"/>
                <a:hlinkClick r:id="rId1" action="ppaction://hlinksldjump"/>
              </a:rPr>
              <a:t>sash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Picture 12" descr="sa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4648320"/>
            <a:ext cx="965160" cy="1438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Pirate_Sash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81080"/>
            <a:ext cx="2771640" cy="21862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6" descr="sash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1981080"/>
            <a:ext cx="115560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0" descr="SASH-3-600%3Fwid%3D340%26obj%3Dmain%26sharpen%3D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66680" y="1981080"/>
            <a:ext cx="1671840" cy="22100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2" descr="StarFlowersSash_s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343400"/>
            <a:ext cx="1374840" cy="17812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4" descr="PatioPacific-ThermoSash-Large-Dog-30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97840" y="4343400"/>
            <a:ext cx="1631880" cy="1733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" descr="Cuba_Cespedes_sash_badge_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971800" y="198108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8" descr="sas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886200" y="4495680"/>
            <a:ext cx="30765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8880" y="9907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Big Question:</a:t>
            </a:r>
            <a:r>
              <a:rPr b="0" lang="en-US" sz="4000" spc="-1" strike="noStrike">
                <a:solidFill>
                  <a:srgbClr val="7cd3c6"/>
                </a:solidFill>
                <a:latin typeface="Tahoma"/>
                <a:ea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What are some different ways that people celebrate?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9000" y="2819520"/>
            <a:ext cx="5340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ea typeface="Tahom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7cd3c6"/>
                </a:solidFill>
                <a:latin typeface="Verdana"/>
              </a:rPr>
              <a:t>–less, -ness</a:t>
            </a:r>
            <a:br>
              <a:rPr sz="4000"/>
            </a:br>
            <a:r>
              <a:rPr b="1" i="1" lang="en-US" sz="2000" spc="-1" strike="noStrike">
                <a:solidFill>
                  <a:srgbClr val="ffffde"/>
                </a:solidFill>
                <a:latin typeface="Verdana"/>
              </a:rPr>
              <a:t>thankless, kindness, goodness, useless, fearless, awareness, careless, thoughtless, darkness, fitness</a:t>
            </a:r>
            <a:endParaRPr b="0" lang="en-US" sz="2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752480" y="1828800"/>
          <a:ext cx="6762960" cy="4476600"/>
        </p:xfrm>
        <a:graphic>
          <a:graphicData uri="http://schemas.openxmlformats.org/drawingml/2006/table">
            <a:tbl>
              <a:tblPr/>
              <a:tblGrid>
                <a:gridCol w="3381480"/>
                <a:gridCol w="3381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l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ad90ce"/>
                          </a:solidFill>
                          <a:latin typeface="Verdana"/>
                        </a:rPr>
                        <a:t>-ness</a:t>
                      </a:r>
                      <a:endParaRPr b="1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ank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us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ear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care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thoughtl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kin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ood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dark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fitnes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2819520" y="1219320"/>
          <a:ext cx="4572000" cy="5321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Vocabulary Words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rum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lattering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ice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ilver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rrow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ccasin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galia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huffled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Vocabulary 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05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kinds of things can mak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clattering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noi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things that a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drum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can be used f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do different kinds of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voic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sound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Do you let peopl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borrow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your thing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at are some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silver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 things you</a:t>
            </a:r>
            <a:r>
              <a:rPr b="0" lang="ja-JP" sz="2800" spc="-1" strike="noStrike">
                <a:solidFill>
                  <a:srgbClr val="ffffde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ve se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When do you like to hear something that </a:t>
            </a:r>
            <a:r>
              <a:rPr b="1" lang="en-US" sz="2800" spc="-1" strike="noStrike">
                <a:solidFill>
                  <a:srgbClr val="ffcc99"/>
                </a:solidFill>
                <a:latin typeface="Verdana"/>
              </a:rPr>
              <a:t>jingles</a:t>
            </a:r>
            <a:r>
              <a:rPr b="0" lang="en-US" sz="2800" spc="-1" strike="noStrike">
                <a:solidFill>
                  <a:srgbClr val="ffffde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990720" y="2209680"/>
          <a:ext cx="2286000" cy="358164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Glue  Word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othe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your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irs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econ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3581280" y="1600200"/>
          <a:ext cx="5334120" cy="467532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Spelling Word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air          midyea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lace      mismatch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lead        misde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ay        mistak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print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nigh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day   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dstream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dweek      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isbehavior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7cd3c6"/>
                        </a:buClr>
                        <a:buSzPct val="75000"/>
                        <a:buFont typeface="Monotype Sort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sbehav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words have more than one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a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y c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The barn is full of ca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wer back of the l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Verdana"/>
              </a:rPr>
              <a:t>My calves ache from running the r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</a:rPr>
              <a:t>Homonym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ll the different meanings of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f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Verdana"/>
              </a:rPr>
              <a:t>du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Monday</a:t>
            </a:r>
            <a:endParaRPr b="0" lang="en-US" sz="36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828800" y="1905120"/>
          <a:ext cx="6095880" cy="4601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0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How often does your family get together? Many people get together to celebrate special occasions.  People all around the world celebrate. What are some different ways that people celebrate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83822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the drumms were clatteri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The drums were clatter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are the jingle bells sli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99"/>
                </a:solidFill>
                <a:latin typeface="Tahoma"/>
                <a:ea typeface="Tahoma"/>
              </a:rPr>
              <a:t>Are the jingle bells silv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Times New Roman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ara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group of sentences about the same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entences are in an order that 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entence gives th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other sentences give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the main id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rst sentences of a paragraph is </a:t>
            </a: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inden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you tried th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right out of the oven and still wa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Verdana"/>
                <a:hlinkClick r:id="rId1" action="ppaction://hlinksldjump"/>
              </a:rPr>
              <a:t>baklava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" name="Picture 6" descr="-baklava-recipe_mra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205160"/>
            <a:ext cx="1914480" cy="1881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Bakla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046400"/>
            <a:ext cx="2743200" cy="2068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0" descr="Baklava_-_Turkish_special,_80-p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1981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baklava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981080"/>
            <a:ext cx="3038400" cy="2057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baklava-lar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38480" y="43434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6" descr="greek_baklava"/>
          <p:cNvPicPr/>
          <p:nvPr/>
        </p:nvPicPr>
        <p:blipFill>
          <a:blip r:embed="rId12"/>
          <a:stretch/>
        </p:blipFill>
        <p:spPr>
          <a:xfrm>
            <a:off x="3886200" y="213372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d3c6"/>
                </a:solidFill>
                <a:latin typeface="Verdana"/>
                <a:ea typeface="Arial"/>
              </a:rPr>
              <a:t>Indent Paragraphs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90ce"/>
                </a:solidFill>
                <a:latin typeface="Verdana"/>
              </a:rPr>
              <a:t>Put these sentences in an order that makes s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ood at this festival is delicious. Have you tried the baklava? It is right out of the oven and still warm. The crust is fla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e"/>
                </a:solidFill>
                <a:latin typeface="Tahoma"/>
                <a:ea typeface="Tahoma"/>
              </a:rPr>
              <a:t>Wrap Up Your Day!</a:t>
            </a:r>
            <a:endParaRPr b="0" lang="en-US" sz="48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Character, Setting,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et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Tomorrow we will read a story about a Native American festiv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Wednesday</a:t>
            </a:r>
            <a:endParaRPr b="0" lang="en-US" sz="32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8288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Journal Topic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rite about a time when you borrowed something.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joyful time and bring us happiness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Jingle Dancer</a:t>
            </a:r>
            <a:r>
              <a:rPr b="0" lang="en-US" sz="4400" spc="-1" strike="noStrike">
                <a:solidFill>
                  <a:srgbClr val="ffffde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cd3c6"/>
                </a:solidFill>
                <a:latin typeface="Tahoma"/>
                <a:ea typeface="Tahoma"/>
              </a:rPr>
              <a:t>Thursday</a:t>
            </a:r>
            <a:r>
              <a:rPr b="0" lang="en-US" sz="4000" spc="-1" strike="noStrike">
                <a:solidFill>
                  <a:srgbClr val="ffffd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de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523880" y="1752480"/>
          <a:ext cx="6477120" cy="467532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468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Morning Warm-Up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oday we will read about another Native American celebration.  Family celebrations are a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joy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time and bring us </a:t>
                      </a:r>
                      <a:r>
                        <a:rPr b="1" i="1" lang="en-US" sz="3200" spc="-1" strike="noStrike">
                          <a:solidFill>
                            <a:srgbClr val="7cd3c6"/>
                          </a:solidFill>
                          <a:latin typeface="Tahoma"/>
                          <a:ea typeface="Tahoma"/>
                        </a:rPr>
                        <a:t>happines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. Do you invite family and friends to your home for celebrations?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76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de"/>
                </a:solidFill>
                <a:latin typeface="Tahoma"/>
                <a:ea typeface="Tahoma"/>
              </a:rPr>
              <a:t>Today we will learn about:</a:t>
            </a:r>
            <a:endParaRPr b="0" lang="en-US" sz="4400" spc="-1" strike="noStrike">
              <a:solidFill>
                <a:srgbClr val="ffffd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47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refixes </a:t>
            </a:r>
            <a:r>
              <a:rPr b="0" i="1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mis-, mid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Read with Appropriate Phr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Para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d3c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Listen for Speaker</a:t>
            </a:r>
            <a:r>
              <a:rPr b="0" lang="ja-JP" sz="3200" spc="-1" strike="noStrike">
                <a:solidFill>
                  <a:srgbClr val="7cd3c6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7cd3c6"/>
                </a:solidFill>
                <a:latin typeface="Tahoma"/>
                <a:ea typeface="Tahoma"/>
              </a:rPr>
              <a:t>s Purpos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5-14T13:38:40Z</dcterms:modified>
  <cp:revision>46</cp:revision>
  <dc:subject/>
  <dc:title>Slide 1</dc:title>
</cp:coreProperties>
</file>